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9DB9-D9D8-48DA-8EE6-770A0444E8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24B3-22F5-4CA2-AA0C-7FDDEE18173D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791A-8EE7-4DF8-A16B-C02BF403169B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4A5B-16EE-48E8-90CE-8FEB863A25CD}" type="slidenum">
              <a:rPr b="0" lang="en-GB" sz="1200" spc="-1" strike="noStrike">
                <a:solidFill>
                  <a:srgbClr val="262321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153-2EB7-4C22-B545-3904B603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814-CB46-445A-910D-834AEDB7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5BB9E-D4A2-43AB-B976-53000562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F9F09-1D5E-4FBC-AFBB-785F595D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6EC7F-B7DB-437A-90E3-84A4052F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24E3EB-C1CC-4ABD-8617-EEC2D5F8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18049-1072-4209-B7B0-94C1067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EE2FE-3FBE-4D2E-BF68-63A15F7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A09D47-80D1-4A17-B676-5CBF7968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0389B1-3527-4132-8020-5BDF8A5D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5E0A34-E6AA-441E-9646-BEF0EDD6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2614A1-DE71-4290-9825-3E4471D4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2C8-0F8F-40FA-8093-C7F87C3A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BD417-56FD-4C88-991B-8A9BB533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4E9D4F-B139-4EAB-8D32-D3C85637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A9C9C5-B0C0-4431-A744-2AE32547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44E6BF-0891-4CE3-BE29-37012F73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A7D3B5-3EAD-4031-B612-73580A37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9ADE15-3F8D-44C5-95CE-C3526869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7CBFB8-4F00-4776-A6CA-08A374A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B1DE57-C022-4AC9-A9E8-32AE0191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6AD823-C486-445C-B94F-1963080C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A430A9-EDC8-40C8-B7B4-1EA54884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AAF-745C-4ED3-9E0B-5995EAC6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B2FA4F-1502-4634-9FC4-DE77329A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3F80F-9A5C-46C4-93FD-B478296280C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680B7-5577-493D-AC9F-E2E806077F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91176-EFA2-4A44-B41B-07990FC434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0097E-B63B-414A-B290-9A8B76A58CF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F5ADC-EFE0-4B6B-A385-166E3BE212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C96F7-C72E-4BFB-BDBF-956EC1DAE52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31641-6AF1-40EE-8EB8-DD76D4A2585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1B60A-DA60-4C26-A24A-D4022BACD41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460B1-5086-42A5-B231-44BF4B3D4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7725-6EF9-48F9-965F-FA99E8FA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6C630-4E2C-42C3-B48B-18E1ED5078D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D3EFF-2A12-407F-AA30-D51C172EF8B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087E1-70FA-4587-A08B-BA7767474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F33C-16C9-4212-A3FC-1A397B6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3B1E-876B-49B2-94F6-869EA42B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CB3E-FE3C-474B-ACE3-2DFFBAB0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27F2-A836-4744-93F1-C5AF7A1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DA12-D910-4791-A96B-23919A6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7BCF-F18D-4277-A0E7-F898C5C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FB3-262B-46C7-BECB-AC72D7D1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4182-C1C6-4B89-A9E7-AA3B4C2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2B94-CCA8-457A-9989-0DEF2204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103D-87F6-472D-BB81-AF7327ED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2853-5666-4D37-B5FD-AF4057FB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E448-6806-4455-8F6D-A037CDDB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BFF9-98DA-4C8E-BCF7-7A41B7CA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A1C0-C773-4A28-B6A1-BC8BA48A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37F4-1D20-4EC7-B27B-C51E897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188F-BE93-4E13-A77E-0CE8DE4C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8919-5938-42C5-8A09-F4776144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957-B255-4F19-856E-50F09EE9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16A0-3568-460B-8CDD-E9E29862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8147-41F4-4DA3-869C-13ECE453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E61FC-147B-4756-8D45-A1B58AD9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37DA-566F-4ADC-833A-0F9143E4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AF194-EC24-4D78-9B9F-7EECAB7F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5A47-062A-48C6-A3A6-504633ED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E994A-2CD4-4564-8E65-561648C8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F762-2AF1-4379-8733-3DA95B75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3A2F5-3BA7-4091-AEA7-A526D6F8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85AE-F3BB-4185-826C-A6956E49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17B-4B22-43F1-A725-87DD44B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ECCA-29D3-4DDB-B723-CD0A020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C2B3-2ADC-453D-89B6-303C13ED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D2E9-86FC-40DF-B2A1-A5952671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DAE8-248D-486C-B950-AB0CCB12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64CFD-6AEB-4DA2-93B2-CC3FF1A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504E-E0C3-44A3-A519-372B53AD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8330-D0FD-41A0-A8A9-8A90880B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29D7-8E18-422C-AE7B-C9A47971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3D79-413A-4CBE-9EF1-CB427646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7151-0699-4634-A167-DFC5CCC6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936-31F0-4CD2-B999-817B50CF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4763A-4E7B-4EB6-B66E-AE00B7F5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9BE58-47F3-4159-B6C6-EE73732B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FDB0D-0F40-4C7B-B5E5-F391806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9117-AF13-406A-B6CE-AA8A11C0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7FFF-4B74-4B44-B5BC-68BF0193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E603A-0170-4116-A55F-D3CDA6D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6C1C-6A11-4969-AE46-A9982DF7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050D-8F9A-4CA7-8F8A-783E2BB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31F91-C4D7-46F3-B00F-2ECD9A7A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62F8E-3C40-4F5B-AA76-388F635A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583-00C6-47D8-AC8E-D1F19AB3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34EA2-ABC1-4FF9-B0A0-C6EDF344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8C9A6-BCA6-4277-BFFC-E73479F3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A943-D5FC-4FDE-B318-ABCB02AC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E634D-4EE6-4E05-9D3B-4A532F9F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AFB70-F3AC-4448-8581-2488BE19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7BF1A-7773-497A-AE4C-7A1315BB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4CF6-FFE0-4795-8C30-ED3EBCC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EB545-3632-48F4-ACC4-7F867F30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E6A51-950E-409E-B0A0-26A219D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1BC95-BE38-4324-9303-E6454DE8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F51-5820-4CE1-AD2C-687325E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1D257-EB83-4BE0-BD30-71A07A4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DBFE5-0122-43D5-8AC0-BB185C93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C4D18-1E03-4E43-BF8F-B7E4FC5D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01F0C-CDE2-4925-82EC-338AA4A7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8E163-93D2-4B8D-A115-BE39F983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AAD98-B197-48F1-A292-CFFBCAB1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9627B-4807-4A4C-8E4B-1642C6DF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733DB-FB25-4941-988A-3A7C303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60929-FB19-4962-9106-F1B2A13C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D3D2-D7D9-40F1-99FF-4AE267EA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4E6-85A0-4D2C-BE7A-09CFB78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2F363-E3EF-49B1-9403-36F16DA4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69AD-E0B3-40BB-B057-1FAB4316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36F90-2D1F-4791-AE76-5DCCB7B9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7B5DB-D293-4491-A573-865D3E7E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21C89-844A-449C-AC5F-600799BA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7A4-DB0D-45CF-9C29-0E8B931E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0D7B6-6411-45CA-9BD6-A4035DC7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BEE60A-3D91-4EB1-90A5-36BD5934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B12239-DF05-46F7-80E8-A4420D59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F1C7-CD7D-4F5E-B1BA-051A811BCBAB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ACC3-30CB-4C67-BBBF-E9D3537F5F4A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12"/>
          <p:cNvGrpSpPr/>
          <p:nvPr/>
        </p:nvGrpSpPr>
        <p:grpSpPr>
          <a:xfrm>
            <a:off x="-6480" y="1854360"/>
            <a:ext cx="9150840" cy="3168360"/>
            <a:chOff x="-6480" y="1854360"/>
            <a:chExt cx="9150840" cy="3168360"/>
          </a:xfrm>
        </p:grpSpPr>
        <p:sp>
          <p:nvSpPr>
            <p:cNvPr id="425" name="Rectangle 7"/>
            <p:cNvSpPr/>
            <p:nvPr/>
          </p:nvSpPr>
          <p:spPr>
            <a:xfrm>
              <a:off x="0" y="1854360"/>
              <a:ext cx="9144360" cy="3168360"/>
            </a:xfrm>
            <a:prstGeom prst="rect">
              <a:avLst/>
            </a:prstGeom>
            <a:solidFill>
              <a:srgbClr val="605954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ctr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-6480" y="1854360"/>
              <a:ext cx="463320" cy="3168360"/>
            </a:xfrm>
            <a:prstGeom prst="rect">
              <a:avLst/>
            </a:prstGeom>
            <a:solidFill>
              <a:srgbClr val="60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</p:grpSp>
      <p:sp>
        <p:nvSpPr>
          <p:cNvPr id="427" name="Rectangle 9"/>
          <p:cNvSpPr/>
          <p:nvPr/>
        </p:nvSpPr>
        <p:spPr>
          <a:xfrm>
            <a:off x="260280" y="5827680"/>
            <a:ext cx="5032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Institute of Education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, University of London, 20 Bedford Way, London, WC1H 0AL,  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260280" y="6041880"/>
            <a:ext cx="6832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tel: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 +44(0)20 7612 6437    </a:t>
            </a: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fax: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 +44(0)20 7612 6126    </a:t>
            </a: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email: 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holocaust@ioe.ac.uk    </a:t>
            </a: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web: 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www.ioe.ac.uk/holocaust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250920" y="6351480"/>
            <a:ext cx="7345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3838e"/>
                </a:solidFill>
                <a:latin typeface="Arial"/>
              </a:rPr>
              <a:t>The IOE’s Centre for Holocaust Education is jointly funded by Pears Foundation and the Department for Education.</a:t>
            </a:r>
            <a:endParaRPr b="0" lang="en-US" sz="10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30" name="Picture 12" descr="CforHE_logo.png"/>
          <p:cNvPicPr/>
          <p:nvPr/>
        </p:nvPicPr>
        <p:blipFill>
          <a:blip r:embed="rId2"/>
          <a:stretch/>
        </p:blipFill>
        <p:spPr>
          <a:xfrm>
            <a:off x="352440" y="5381640"/>
            <a:ext cx="1871640" cy="398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IOE Logo"/>
          <p:cNvPicPr/>
          <p:nvPr/>
        </p:nvPicPr>
        <p:blipFill>
          <a:blip r:embed="rId3"/>
          <a:stretch/>
        </p:blipFill>
        <p:spPr>
          <a:xfrm>
            <a:off x="7343640" y="873000"/>
            <a:ext cx="1405080" cy="5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" descr="N:\Pictures\img003.jpg"/>
          <p:cNvPicPr/>
          <p:nvPr/>
        </p:nvPicPr>
        <p:blipFill>
          <a:blip r:embed="rId4"/>
          <a:stretch/>
        </p:blipFill>
        <p:spPr>
          <a:xfrm>
            <a:off x="6540480" y="2514600"/>
            <a:ext cx="2279520" cy="18478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4ACC-0BD4-4E58-B375-C84CEC2594F0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OE Logo"/>
          <p:cNvPicPr/>
          <p:nvPr/>
        </p:nvPicPr>
        <p:blipFill>
          <a:blip r:embed="rId2"/>
          <a:stretch/>
        </p:blipFill>
        <p:spPr>
          <a:xfrm>
            <a:off x="7545240" y="873000"/>
            <a:ext cx="1274760" cy="490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44560" y="176364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3838e"/>
                </a:solidFill>
                <a:latin typeface="Arial Narrow"/>
              </a:rPr>
              <a:t>Centre for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44560" y="1913040"/>
            <a:ext cx="2655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62321"/>
                </a:solidFill>
                <a:latin typeface="Arial Narrow"/>
              </a:rPr>
              <a:t>Holocaust Education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grpSp>
        <p:nvGrpSpPr>
          <p:cNvPr id="45" name="Group 18"/>
          <p:cNvGrpSpPr/>
          <p:nvPr/>
        </p:nvGrpSpPr>
        <p:grpSpPr>
          <a:xfrm>
            <a:off x="927000" y="2565360"/>
            <a:ext cx="7748640" cy="2257560"/>
            <a:chOff x="927000" y="2565360"/>
            <a:chExt cx="7748640" cy="2257560"/>
          </a:xfrm>
        </p:grpSpPr>
        <p:sp>
          <p:nvSpPr>
            <p:cNvPr id="46" name="Straight Connector 11"/>
            <p:cNvSpPr/>
            <p:nvPr/>
          </p:nvSpPr>
          <p:spPr>
            <a:xfrm flipH="1">
              <a:off x="927000" y="2565360"/>
              <a:ext cx="7748640" cy="0"/>
            </a:xfrm>
            <a:prstGeom prst="line">
              <a:avLst/>
            </a:prstGeom>
            <a:ln w="9360">
              <a:solidFill>
                <a:srgbClr val="ccc7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 flipH="1">
              <a:off x="927000" y="4822920"/>
              <a:ext cx="7748640" cy="0"/>
            </a:xfrm>
            <a:prstGeom prst="line">
              <a:avLst/>
            </a:prstGeom>
            <a:ln w="9360">
              <a:solidFill>
                <a:srgbClr val="ccc7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</p:grpSp>
      <p:pic>
        <p:nvPicPr>
          <p:cNvPr id="48" name="Picture 1" descr="N:\Pictures\img003.jpg"/>
          <p:cNvPicPr/>
          <p:nvPr/>
        </p:nvPicPr>
        <p:blipFill>
          <a:blip r:embed="rId3"/>
          <a:stretch/>
        </p:blipFill>
        <p:spPr>
          <a:xfrm>
            <a:off x="900000" y="2806560"/>
            <a:ext cx="2279880" cy="1847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E59E-0DA4-4012-893B-8FCA3D8B7D22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 flipH="1">
            <a:off x="942480" y="1515960"/>
            <a:ext cx="7750440" cy="0"/>
          </a:xfrm>
          <a:prstGeom prst="line">
            <a:avLst/>
          </a:prstGeom>
          <a:ln w="9360">
            <a:solidFill>
              <a:srgbClr val="262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1A93-9067-4F1B-AA4D-E663C093CD59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726B-B984-4338-B1B6-97D09A51998C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A263-11F7-424F-BDE7-8B0B6E97530A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954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125E-383A-44B2-A662-790F3BE1E984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0230-E14B-4031-A59F-B7FA5054C171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954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09E3-FE42-4BC8-B0F9-FE52C204DA58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92360" y="2701800"/>
            <a:ext cx="51120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2321"/>
                </a:solidFill>
                <a:latin typeface="Arial Narrow"/>
              </a:rPr>
              <a:t>What was a Nazi concentration camp?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530520" y="3805200"/>
            <a:ext cx="50738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3838e"/>
                </a:solidFill>
                <a:latin typeface="Arial"/>
              </a:rPr>
              <a:t>What role did Nazi concentration camps play within the Third Reich? </a:t>
            </a:r>
            <a:endParaRPr b="0" lang="en-US" sz="16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71640" y="2924280"/>
            <a:ext cx="201600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82" name="Picture 1" descr=""/>
          <p:cNvPicPr/>
          <p:nvPr/>
        </p:nvPicPr>
        <p:blipFill>
          <a:blip r:embed="rId1"/>
          <a:stretch/>
        </p:blipFill>
        <p:spPr>
          <a:xfrm>
            <a:off x="6659640" y="620640"/>
            <a:ext cx="2238120" cy="8571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3132000" y="1320840"/>
            <a:ext cx="3419640" cy="31428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1"/>
          <p:cNvSpPr/>
          <p:nvPr/>
        </p:nvSpPr>
        <p:spPr>
          <a:xfrm>
            <a:off x="826920" y="1773360"/>
            <a:ext cx="2305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3"/>
          <a:srcRect l="15274" t="0" r="10341" b="0"/>
          <a:stretch/>
        </p:blipFill>
        <p:spPr>
          <a:xfrm>
            <a:off x="1042920" y="2924280"/>
            <a:ext cx="20271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38e"/>
                </a:solidFill>
                <a:latin typeface="Arial Narrow"/>
              </a:rPr>
              <a:t>What did a Nazi concentration camp look like?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187280" y="16732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You have 2 minutes to complete this task.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On an A5 piece of plain paper, draw a picture of what you think a Nazi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concentration camp looked like.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You can draw up to 5 features, but no more.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You are not being judged for your artistic skills, so there’s no need to  worry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about how well you think you can draw.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8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58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58920" y="248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38e"/>
                </a:solidFill>
                <a:latin typeface="Arial Narrow"/>
              </a:rPr>
              <a:t>Creating a Gallery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33020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Now display all the cards on the wall in the form of a mini ‘Gallery’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Take a few moments to get up and have a look at some of them. 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Which features can you see that are the same as yours, and which are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different?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Be ready to feedback about what you’ve noticed.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9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58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34880" y="25668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38e"/>
                </a:solidFill>
                <a:latin typeface="Arial Narrow"/>
              </a:rPr>
              <a:t>Creating a Collective Concept Map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95" name="Oval 4"/>
          <p:cNvSpPr/>
          <p:nvPr/>
        </p:nvSpPr>
        <p:spPr>
          <a:xfrm>
            <a:off x="3511440" y="3103560"/>
            <a:ext cx="2021040" cy="1382760"/>
          </a:xfrm>
          <a:prstGeom prst="ellipse">
            <a:avLst/>
          </a:prstGeom>
          <a:solidFill>
            <a:srgbClr val="4383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What was a Nazi concentration camp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4273560" y="21337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3838e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7" name="TextBox 10"/>
          <p:cNvSpPr/>
          <p:nvPr/>
        </p:nvSpPr>
        <p:spPr>
          <a:xfrm>
            <a:off x="5289480" y="4672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3838e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8" name="TextBox 10"/>
          <p:cNvSpPr/>
          <p:nvPr/>
        </p:nvSpPr>
        <p:spPr>
          <a:xfrm>
            <a:off x="6159600" y="29638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3838e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9" name="TextBox 10"/>
          <p:cNvSpPr/>
          <p:nvPr/>
        </p:nvSpPr>
        <p:spPr>
          <a:xfrm>
            <a:off x="2633760" y="29638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3838e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00" name="TextBox 10"/>
          <p:cNvSpPr/>
          <p:nvPr/>
        </p:nvSpPr>
        <p:spPr>
          <a:xfrm>
            <a:off x="3514680" y="46483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3838e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58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996840" y="1447920"/>
            <a:ext cx="79930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33952" t="13578" r="19562" b="6688"/>
          <a:stretch/>
        </p:blipFill>
        <p:spPr>
          <a:xfrm>
            <a:off x="900000" y="-15840"/>
            <a:ext cx="7128000" cy="687528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8"/>
          <p:cNvSpPr/>
          <p:nvPr/>
        </p:nvSpPr>
        <p:spPr>
          <a:xfrm>
            <a:off x="210960" y="190440"/>
            <a:ext cx="914400" cy="19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0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55800" cy="6896160"/>
          </a:xfrm>
          <a:prstGeom prst="rect">
            <a:avLst/>
          </a:prstGeom>
          <a:ln w="0">
            <a:noFill/>
          </a:ln>
        </p:spPr>
      </p:pic>
      <p:sp>
        <p:nvSpPr>
          <p:cNvPr id="508" name="Content Placeholder 3"/>
          <p:cNvSpPr/>
          <p:nvPr/>
        </p:nvSpPr>
        <p:spPr>
          <a:xfrm>
            <a:off x="7680240" y="4869000"/>
            <a:ext cx="1416240" cy="1895400"/>
          </a:xfrm>
          <a:prstGeom prst="rect">
            <a:avLst/>
          </a:prstGeom>
          <a:solidFill>
            <a:srgbClr val="d9d9d9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262321"/>
                </a:solidFill>
                <a:latin typeface="Arial Narrow"/>
                <a:ea typeface="Arial"/>
              </a:rPr>
              <a:t>Grey line indicates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262321"/>
                </a:solidFill>
                <a:latin typeface="Arial Narrow"/>
                <a:ea typeface="Arial"/>
              </a:rPr>
              <a:t>German borders in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262321"/>
                </a:solidFill>
                <a:latin typeface="Arial Narrow"/>
                <a:ea typeface="Arial"/>
              </a:rPr>
              <a:t>1933. Shaded areas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262321"/>
                </a:solidFill>
                <a:latin typeface="Arial Narrow"/>
                <a:ea typeface="Arial"/>
              </a:rPr>
              <a:t>Approximate German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262321"/>
                </a:solidFill>
                <a:latin typeface="Arial Narrow"/>
                <a:ea typeface="Arial"/>
              </a:rPr>
              <a:t>Occupied and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262321"/>
                </a:solidFill>
                <a:latin typeface="Arial Narrow"/>
                <a:ea typeface="Arial"/>
              </a:rPr>
              <a:t>Annexed Territories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262321"/>
                </a:solidFill>
                <a:latin typeface="Arial Narrow"/>
                <a:ea typeface="Arial"/>
              </a:rPr>
              <a:t>(from ‘Nazi Concentration</a:t>
            </a:r>
            <a:endParaRPr b="0" lang="en-US" sz="10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262321"/>
                </a:solidFill>
                <a:latin typeface="Arial Narrow"/>
                <a:ea typeface="Arial"/>
              </a:rPr>
              <a:t>Camps’ website: Maps</a:t>
            </a:r>
            <a:endParaRPr b="0" lang="en-US" sz="10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000" spc="-1" strike="noStrike">
                <a:solidFill>
                  <a:srgbClr val="262321"/>
                </a:solidFill>
                <a:latin typeface="Arial Narrow"/>
                <a:ea typeface="Arial"/>
              </a:rPr>
              <a:t>Section)</a:t>
            </a:r>
            <a:endParaRPr b="0" lang="en-US" sz="1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09" name="Content Placeholder 3"/>
          <p:cNvSpPr/>
          <p:nvPr/>
        </p:nvSpPr>
        <p:spPr>
          <a:xfrm>
            <a:off x="7380360" y="415800"/>
            <a:ext cx="1763640" cy="938160"/>
          </a:xfrm>
          <a:prstGeom prst="rect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262321"/>
                </a:solidFill>
                <a:latin typeface="Arial Narrow"/>
                <a:ea typeface="Arial"/>
              </a:rPr>
              <a:t>SS Concentration</a:t>
            </a:r>
            <a:endParaRPr b="0" lang="en-US" sz="16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262321"/>
                </a:solidFill>
                <a:latin typeface="Arial Narrow"/>
                <a:ea typeface="Arial"/>
              </a:rPr>
              <a:t>Camp System</a:t>
            </a:r>
            <a:endParaRPr b="0" lang="en-US" sz="16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262321"/>
                </a:solidFill>
                <a:latin typeface="Arial Narrow"/>
                <a:ea typeface="Arial"/>
              </a:rPr>
              <a:t>(Main Camps):1944</a:t>
            </a:r>
            <a:endParaRPr b="0" lang="en-US" sz="16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1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62321"/>
                </a:solidFill>
                <a:latin typeface="Arial Narrow"/>
              </a:rPr>
              <a:t>Nazi Concentration Camps</a:t>
            </a:r>
            <a:endParaRPr b="1" lang="en-US" sz="44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220760" y="1724040"/>
          <a:ext cx="7677000" cy="1482840"/>
        </p:xfrm>
        <a:graphic>
          <a:graphicData uri="http://schemas.openxmlformats.org/drawingml/2006/table">
            <a:tbl>
              <a:tblPr/>
              <a:tblGrid>
                <a:gridCol w="1919160"/>
                <a:gridCol w="1919520"/>
                <a:gridCol w="1919160"/>
                <a:gridCol w="19191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. Auschwitz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2. Bergen-Belsen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3. Buchenwald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4. Dora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5. Esterwegen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6. Flossenbürg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7. Mauthausen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8. Majdanek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9.Neuengamm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0. Ravensbrück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1. Riga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2. Sachsenhausen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3. Stutthof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4. Vaivara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9960" y="2987280"/>
            <a:ext cx="55576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‘</a:t>
            </a: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What was a Nazi concentration camp?’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What role did Nazi concentration camps play within the Third Reich? </a:t>
            </a:r>
            <a:endParaRPr b="1" lang="en-US" sz="24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6659640" y="2637000"/>
            <a:ext cx="2016000" cy="15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rcRect l="15274" t="0" r="10341" b="0"/>
          <a:stretch/>
        </p:blipFill>
        <p:spPr>
          <a:xfrm>
            <a:off x="6689880" y="2637000"/>
            <a:ext cx="2025360" cy="1623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2"/>
          <a:stretch/>
        </p:blipFill>
        <p:spPr>
          <a:xfrm>
            <a:off x="6659640" y="620640"/>
            <a:ext cx="2238120" cy="8571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3"/>
          <a:stretch/>
        </p:blipFill>
        <p:spPr>
          <a:xfrm>
            <a:off x="3132000" y="1320840"/>
            <a:ext cx="341964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57:49Z</dcterms:created>
  <dc:creator>Cloned Ltd</dc:creator>
  <dc:description/>
  <dc:language>en-US</dc:language>
  <cp:lastModifiedBy>localuser</cp:lastModifiedBy>
  <cp:lastPrinted>2016-05-20T12:39:17Z</cp:lastPrinted>
  <dcterms:modified xsi:type="dcterms:W3CDTF">2017-01-13T10:41:45Z</dcterms:modified>
  <cp:revision>519</cp:revision>
  <dc:subject/>
  <dc:title>Slide 1</dc:title>
</cp:coreProperties>
</file>