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321"/>
                </a:solidFill>
                <a:latin typeface="Arial Narrow"/>
              </a:rPr>
              <a:t>Click to move the slide</a:t>
            </a: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EFEC-5453-4B50-A863-7E3DEC985F2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FF6D-742B-4700-88E5-4D5B4E078DAD}" type="slidenum">
              <a:rPr b="0" lang="en-GB" sz="1200" spc="-1" strike="noStrike">
                <a:solidFill>
                  <a:srgbClr val="26232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FBEE-0776-46CE-98DB-3BD1E534E14A}" type="slidenum">
              <a:rPr b="0" lang="en-GB" sz="1200" spc="-1" strike="noStrike">
                <a:solidFill>
                  <a:srgbClr val="26232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3A56-5361-46DF-A4F2-629EC19D1346}" type="slidenum">
              <a:rPr b="0" lang="en-GB" sz="1200" spc="-1" strike="noStrike">
                <a:solidFill>
                  <a:srgbClr val="26232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D848-7734-4301-A4A8-163026E72E46}" type="slidenum">
              <a:rPr b="0" lang="en-GB" sz="1200" spc="-1" strike="noStrike">
                <a:solidFill>
                  <a:srgbClr val="26232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7D90-4135-4CEF-B657-112D35277B82}" type="slidenum">
              <a:rPr b="0" lang="en-GB" sz="1200" spc="-1" strike="noStrike">
                <a:solidFill>
                  <a:srgbClr val="26232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57DC-3B87-4EFA-A603-A60D91CFE44C}" type="slidenum">
              <a:rPr b="0" lang="en-GB" sz="1200" spc="-1" strike="noStrike">
                <a:solidFill>
                  <a:srgbClr val="26232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1CA1-4D6C-4849-998A-08057AE29175}" type="slidenum">
              <a:rPr b="0" lang="en-GB" sz="1200" spc="-1" strike="noStrike">
                <a:solidFill>
                  <a:srgbClr val="26232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6FE0-48B9-4F71-8BA1-04481673817F}" type="slidenum">
              <a:rPr b="0" lang="en-GB" sz="1200" spc="-1" strike="noStrike">
                <a:solidFill>
                  <a:srgbClr val="26232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4E38-F09B-4B9C-8332-E0F065CED9AB}" type="slidenum">
              <a:rPr b="0" lang="en-GB" sz="1200" spc="-1" strike="noStrike">
                <a:solidFill>
                  <a:srgbClr val="26232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3138-9FF1-48C8-A67D-A9F39F27450F}" type="slidenum">
              <a:rPr b="0" lang="en-GB" sz="1200" spc="-1" strike="noStrike">
                <a:solidFill>
                  <a:srgbClr val="26232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EB0D-8DAE-43F8-8205-4859F11CB15D}" type="slidenum">
              <a:rPr b="0" lang="en-GB" sz="1200" spc="-1" strike="noStrike">
                <a:solidFill>
                  <a:srgbClr val="26232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DDE4-F38F-43DA-AA14-4543DD4FCD70}" type="slidenum">
              <a:rPr b="0" lang="en-GB" sz="1200" spc="-1" strike="noStrike">
                <a:solidFill>
                  <a:srgbClr val="262321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89EE-50A3-4351-A43F-92639EDB1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9F30-CEE0-4B7C-81C1-980838E3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C95ACD-46DC-4ABC-BE8A-BCB88B17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6B8A33-290B-4334-B054-939FE543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A3395B-61C7-45EC-8B37-BA52D85E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40133A-1181-477A-94F6-A582D09C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F8944E-80D5-45C2-B053-2BEC6D5E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3FA412-2932-4A44-9570-CB04D4D6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4334A9-6B86-4C40-89D3-68749680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0CECD3-F618-40C8-8F82-F15EE74AC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53268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16572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90000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53268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16572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D57B19-95B6-4C46-AF6F-E503F3E72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94A7BF-B013-4988-AAA6-D9EAF9606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7C66-059E-47C8-8192-4C3B6AA81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6A1BC8-4CBE-4350-9F8D-941C1198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B84987-FCB6-4387-BE81-5BB376E4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A78608-C2BB-4836-859C-378ED8D6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87F13B-73F6-457C-88EF-1C3448EE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FCE827-B039-455C-8508-0509204D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8144AC-EF57-4931-A715-4CF74AFD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79C7C3-A110-40AF-9B0E-F1894206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62C802-1B71-4847-8AFE-0188F85A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C15B8C-BD23-4A8F-993D-75F0D81A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04232D-38DB-4230-B44D-15074652B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268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572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000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268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572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7558-8896-4748-8878-C67685DCC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53268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16572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90000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53268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16572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E6D310-D3CE-4DD6-9BB8-A6DB5720B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2460DB-A10B-465B-A3BF-2016C2C35EA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BF0345-4E92-4E62-8634-8D3D50420B3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AF0E2D-8F0F-450F-803F-9DE016BB8F7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3BC40-251C-4245-AF6A-3CF19B7C7A0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A9235F-209B-4529-8425-45096FC0E96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CEBE97-F729-4905-94C2-2189E337290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D328B4-D6D2-4D38-A227-7D678802DE4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32BDB8-3F3A-4137-BF08-F164706619F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975A77-0EF3-4F18-9F4D-7FBD74892D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E413-8492-43D3-A1F9-A8D97DEC6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EF54F-35D7-4128-8FEB-95CD3CCE37A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655F4-27EC-4522-B372-78963C8E144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53268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16572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0000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53268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16572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CC5D39-EC3F-44FE-9586-81A90D3419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F190-C1DA-490A-B26B-59264B7B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6EDC-A90D-44F6-A568-1294EA1C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9D8E-7169-4FDD-A876-65B1BEC3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8E0B-ED7D-4B6E-9248-F6EF192B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35E5-68DB-4812-97A0-44F6D512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2CB03-906F-4FB1-818D-0928F4E9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0482-58C9-4B3E-90C0-FBD9FBF9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B6E9-D1B5-4213-9AD1-97754991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CBC5-19DF-4F72-844D-29E1509A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3B9A-A423-4E9D-9322-4397EB5E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7434-2B82-45E3-A9B5-0313DADEA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268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6572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0000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268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6572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7777-291D-4FC6-9813-54D53A409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9D6EF-426C-47B5-9758-7DD414B08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A8567-0B77-4AE5-B9DC-B11DCA38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1357E-7B1E-49C4-9247-00E5166D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A6AA6-0E63-44F2-86DD-6DAEE9A1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705A7-6823-4502-B943-2EBCE1AE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E313-C528-4AEE-8AC3-1844E3AB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323A2-0F8F-4CC3-9878-BF72C081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EDAF5-BE01-44AF-AD1E-A1A2CF83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C2CFA-C3D3-4E0F-BFFC-116B9921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FFACA-93FA-4399-BB36-9A36C82A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06516-64E1-4E6D-B913-3CB39A9B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D2809-CA54-460B-AFD1-6E05CA102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3268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6572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90000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3268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16572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8D145-74E8-4685-872D-06C7CD936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70B01-E6EA-417A-9071-19B330DEA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8FF18-9C0E-4615-ACB1-52BBEB6B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8CF72-9EA1-4A3F-B09F-5C443E1C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7054-E9BB-4ACB-908D-90CF5B3B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F77AA-B581-4C7F-A0A3-F3FC8DCB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455CE-5ADB-469B-A925-2F2F84C9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7D4D4-AF9A-4D00-BD76-8B5494E7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832D9-86E4-44C3-A507-668CEB1B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320FE-DC86-430A-9B95-FBC51306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2DBF5-3DAA-4ECB-9E09-9F677CB8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41E47-2323-4EBC-8668-F34C3F74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C126F-C639-4538-97B4-7427E2ED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53268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16572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90000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53268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16572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026B2-19CB-4D80-BEB8-83D151E9A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BDDC2-F039-42B0-8C95-6E5B01A6B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BCBC-CEAB-41A0-A518-675091B1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E24E0-8641-4CCE-81EE-53ED7A7F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E4F7E-E76C-4089-ADF4-9AE2C56F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46417-1892-49B7-8A16-BC0E665E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7CCE5-A30B-490D-9B3A-3E60A39C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592E0-AB8B-4E98-BA43-8CB14091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184E2-3BE0-4965-899D-02749241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AA58E-3D62-47C5-B59A-12206EE2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F951A-AE78-4B45-90AC-B5D5A0DC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FB64B-3D87-48A3-9AF8-78EFE4B8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0A7B3-E059-4FFB-9F43-AA50A1DD1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0120-249E-4255-AECA-751D3F30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53268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16572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90000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53268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16572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66DB4-4FAD-42BF-A4A2-1B87475D0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D0BCD-D622-4DF6-BA25-208971FF7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A2E50-29DC-426B-8299-79E7F5D2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5AD31-A40D-4C44-8B89-D52FDABD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0E166-8E9A-4ECA-91D3-27A8CD7D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AE9B3-9372-42CB-9AB2-3F179749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1D4EB-55E5-46EF-A295-FB98EFB8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6E7E7-8798-4A1E-9A34-AA6E5000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22CAB-4BB2-40D2-A166-C5EDCBAB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E1A48-F5E9-4926-B8B6-6CDBE347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918B-B382-4F61-B33D-FB4387BC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D1BCC-FCA3-4D04-8BCD-1A7A45A9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18629-CB8C-40A9-811D-7C84E0EED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53268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6572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90000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53268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6572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0F548-C3BD-4DF3-9999-7B55F738B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6919A-C531-4512-8785-F87E12007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BE35A-E92E-4763-8A8E-A6AAD756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5520E-AD56-4014-89BD-3DE618B1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DD28B-FF67-4AEC-A890-01DD7199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794D7-A70C-49C0-8C84-E881D31D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5B44E-9093-4EEF-AE2F-B35839B9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20530-76F1-4532-87FE-453F6808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3C9E-F68A-4FDF-AA60-990F8598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FD6F8-BE9C-4293-B0BA-A55369D1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2C95F-E81A-4F36-A119-25B41203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FF8CB-FE03-47FE-9871-9837FB2B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68996-BC54-4975-BD30-C8A1BB64B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3268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6572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90000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3268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16572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DA901-1C86-4D22-84D3-EF60706B6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3662-E34D-42C8-8722-98838925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3268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6572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90000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53268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16572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C80736-8787-4A6B-AAD9-16FBD2A0B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488E02-A93A-4404-9CC0-433B8C4E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7DB43F-CBB1-4D58-B20B-05BB8945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321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1" marL="343080" indent="-343080">
              <a:spcAft>
                <a:spcPts val="601"/>
              </a:spcAft>
              <a:buClr>
                <a:srgbClr val="43838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2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3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4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5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6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d8c8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d8c8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d8c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588F-2249-4C1F-8351-E94ED676C45D}" type="slidenum">
              <a:rPr b="0" lang="en-GB" sz="900" spc="-1" strike="noStrike">
                <a:solidFill>
                  <a:srgbClr val="8d8c8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321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1" marL="343080" indent="-343080">
              <a:spcAft>
                <a:spcPts val="601"/>
              </a:spcAft>
              <a:buClr>
                <a:srgbClr val="43838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2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3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4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5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6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d8c8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d8c8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d8c8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FB29-480A-4929-B1B9-C6B726E5C456}" type="slidenum">
              <a:rPr b="0" lang="en-GB" sz="900" spc="-1" strike="noStrike">
                <a:solidFill>
                  <a:srgbClr val="8d8c8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12"/>
          <p:cNvGrpSpPr/>
          <p:nvPr/>
        </p:nvGrpSpPr>
        <p:grpSpPr>
          <a:xfrm>
            <a:off x="-6480" y="1854360"/>
            <a:ext cx="9150840" cy="3168360"/>
            <a:chOff x="-6480" y="1854360"/>
            <a:chExt cx="9150840" cy="3168360"/>
          </a:xfrm>
        </p:grpSpPr>
        <p:sp>
          <p:nvSpPr>
            <p:cNvPr id="425" name="Rectangle 7"/>
            <p:cNvSpPr/>
            <p:nvPr/>
          </p:nvSpPr>
          <p:spPr>
            <a:xfrm>
              <a:off x="0" y="1854360"/>
              <a:ext cx="9144360" cy="3168360"/>
            </a:xfrm>
            <a:prstGeom prst="rect">
              <a:avLst/>
            </a:prstGeom>
            <a:solidFill>
              <a:srgbClr val="605954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800" rIns="73800" tIns="36720" bIns="36720" anchor="ctr">
              <a:noAutofit/>
            </a:bodyPr>
            <a:p>
              <a:pPr algn="ctr">
                <a:spcAft>
                  <a:spcPts val="1199"/>
                </a:spcAft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262321"/>
                </a:solidFill>
                <a:latin typeface="Arial"/>
              </a:endParaRPr>
            </a:p>
          </p:txBody>
        </p:sp>
        <p:sp>
          <p:nvSpPr>
            <p:cNvPr id="426" name="Rectangle 8"/>
            <p:cNvSpPr/>
            <p:nvPr/>
          </p:nvSpPr>
          <p:spPr>
            <a:xfrm>
              <a:off x="-6480" y="1854360"/>
              <a:ext cx="463320" cy="3168360"/>
            </a:xfrm>
            <a:prstGeom prst="rect">
              <a:avLst/>
            </a:prstGeom>
            <a:solidFill>
              <a:srgbClr val="605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800" rIns="73800" tIns="36720" bIns="3672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262321"/>
                </a:solidFill>
                <a:latin typeface="Arial"/>
              </a:endParaRPr>
            </a:p>
          </p:txBody>
        </p:sp>
      </p:grpSp>
      <p:sp>
        <p:nvSpPr>
          <p:cNvPr id="427" name="Rectangle 9"/>
          <p:cNvSpPr/>
          <p:nvPr/>
        </p:nvSpPr>
        <p:spPr>
          <a:xfrm>
            <a:off x="260280" y="5827680"/>
            <a:ext cx="5032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262321"/>
                </a:solidFill>
                <a:latin typeface="Arial Narrow"/>
              </a:rPr>
              <a:t>Institute of Education</a:t>
            </a:r>
            <a:r>
              <a:rPr b="0" lang="en-GB" sz="1200" spc="-1" strike="noStrike">
                <a:solidFill>
                  <a:srgbClr val="262321"/>
                </a:solidFill>
                <a:latin typeface="Arial Narrow"/>
              </a:rPr>
              <a:t>, University of London, 20 Bedford Way, London, WC1H 0AL,  </a:t>
            </a:r>
            <a:endParaRPr b="0" lang="en-US" sz="12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28" name="Rectangle 10"/>
          <p:cNvSpPr/>
          <p:nvPr/>
        </p:nvSpPr>
        <p:spPr>
          <a:xfrm>
            <a:off x="260280" y="6041880"/>
            <a:ext cx="6832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262321"/>
                </a:solidFill>
                <a:latin typeface="Arial Narrow"/>
              </a:rPr>
              <a:t>tel:</a:t>
            </a:r>
            <a:r>
              <a:rPr b="0" lang="en-GB" sz="1200" spc="-1" strike="noStrike">
                <a:solidFill>
                  <a:srgbClr val="262321"/>
                </a:solidFill>
                <a:latin typeface="Arial Narrow"/>
              </a:rPr>
              <a:t> +44(0)20 7612 6437    </a:t>
            </a:r>
            <a:r>
              <a:rPr b="1" lang="en-GB" sz="1200" spc="-1" strike="noStrike">
                <a:solidFill>
                  <a:srgbClr val="262321"/>
                </a:solidFill>
                <a:latin typeface="Arial Narrow"/>
              </a:rPr>
              <a:t>fax:</a:t>
            </a:r>
            <a:r>
              <a:rPr b="0" lang="en-GB" sz="1200" spc="-1" strike="noStrike">
                <a:solidFill>
                  <a:srgbClr val="262321"/>
                </a:solidFill>
                <a:latin typeface="Arial Narrow"/>
              </a:rPr>
              <a:t> +44(0)20 7612 6126    </a:t>
            </a:r>
            <a:r>
              <a:rPr b="1" lang="en-GB" sz="1200" spc="-1" strike="noStrike">
                <a:solidFill>
                  <a:srgbClr val="262321"/>
                </a:solidFill>
                <a:latin typeface="Arial Narrow"/>
              </a:rPr>
              <a:t>email: </a:t>
            </a:r>
            <a:r>
              <a:rPr b="0" lang="en-GB" sz="1200" spc="-1" strike="noStrike">
                <a:solidFill>
                  <a:srgbClr val="262321"/>
                </a:solidFill>
                <a:latin typeface="Arial Narrow"/>
              </a:rPr>
              <a:t>holocaust@ioe.ac.uk    </a:t>
            </a:r>
            <a:r>
              <a:rPr b="1" lang="en-GB" sz="1200" spc="-1" strike="noStrike">
                <a:solidFill>
                  <a:srgbClr val="262321"/>
                </a:solidFill>
                <a:latin typeface="Arial Narrow"/>
              </a:rPr>
              <a:t>web: </a:t>
            </a:r>
            <a:r>
              <a:rPr b="0" lang="en-GB" sz="1200" spc="-1" strike="noStrike">
                <a:solidFill>
                  <a:srgbClr val="262321"/>
                </a:solidFill>
                <a:latin typeface="Arial Narrow"/>
              </a:rPr>
              <a:t>www.ioe.ac.uk/holocaust</a:t>
            </a:r>
            <a:endParaRPr b="0" lang="en-US" sz="12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29" name="Rectangle 11"/>
          <p:cNvSpPr/>
          <p:nvPr/>
        </p:nvSpPr>
        <p:spPr>
          <a:xfrm>
            <a:off x="250920" y="6351480"/>
            <a:ext cx="7345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43838e"/>
                </a:solidFill>
                <a:latin typeface="Arial"/>
              </a:rPr>
              <a:t>The IOE’s Centre for Holocaust Education is jointly funded by Pears Foundation and the Department for Education.</a:t>
            </a:r>
            <a:endParaRPr b="0" lang="en-US" sz="10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430" name="Picture 12" descr="CforHE_logo.png"/>
          <p:cNvPicPr/>
          <p:nvPr/>
        </p:nvPicPr>
        <p:blipFill>
          <a:blip r:embed="rId2"/>
          <a:stretch/>
        </p:blipFill>
        <p:spPr>
          <a:xfrm>
            <a:off x="352440" y="5381640"/>
            <a:ext cx="1871640" cy="3985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4" descr="IOE Logo"/>
          <p:cNvPicPr/>
          <p:nvPr/>
        </p:nvPicPr>
        <p:blipFill>
          <a:blip r:embed="rId3"/>
          <a:stretch/>
        </p:blipFill>
        <p:spPr>
          <a:xfrm>
            <a:off x="7343640" y="873000"/>
            <a:ext cx="1405080" cy="5400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" descr="N:\Pictures\img003.jpg"/>
          <p:cNvPicPr/>
          <p:nvPr/>
        </p:nvPicPr>
        <p:blipFill>
          <a:blip r:embed="rId4"/>
          <a:stretch/>
        </p:blipFill>
        <p:spPr>
          <a:xfrm>
            <a:off x="6540480" y="2514600"/>
            <a:ext cx="2279520" cy="184788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321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1" marL="343080" indent="-343080">
              <a:spcAft>
                <a:spcPts val="601"/>
              </a:spcAft>
              <a:buClr>
                <a:srgbClr val="43838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2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3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4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5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6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d8c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6E07-90CA-41E2-B387-426263424268}" type="slidenum">
              <a:rPr b="0" lang="en-GB" sz="900" spc="-1" strike="noStrike">
                <a:solidFill>
                  <a:srgbClr val="8d8c8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IOE Logo"/>
          <p:cNvPicPr/>
          <p:nvPr/>
        </p:nvPicPr>
        <p:blipFill>
          <a:blip r:embed="rId2"/>
          <a:stretch/>
        </p:blipFill>
        <p:spPr>
          <a:xfrm>
            <a:off x="7545240" y="873000"/>
            <a:ext cx="1274760" cy="4906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0" y="0"/>
            <a:ext cx="463680" cy="6858000"/>
          </a:xfrm>
          <a:prstGeom prst="rect">
            <a:avLst/>
          </a:prstGeom>
          <a:solidFill>
            <a:srgbClr val="605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844560" y="1763640"/>
            <a:ext cx="129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3838e"/>
                </a:solidFill>
                <a:latin typeface="Arial Narrow"/>
              </a:rPr>
              <a:t>Centre for</a:t>
            </a: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44560" y="1913040"/>
            <a:ext cx="2655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62321"/>
                </a:solidFill>
                <a:latin typeface="Arial Narrow"/>
              </a:rPr>
              <a:t>Holocaust Education</a:t>
            </a: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grpSp>
        <p:nvGrpSpPr>
          <p:cNvPr id="45" name="Group 18"/>
          <p:cNvGrpSpPr/>
          <p:nvPr/>
        </p:nvGrpSpPr>
        <p:grpSpPr>
          <a:xfrm>
            <a:off x="927000" y="2565360"/>
            <a:ext cx="7748640" cy="2257560"/>
            <a:chOff x="927000" y="2565360"/>
            <a:chExt cx="7748640" cy="2257560"/>
          </a:xfrm>
        </p:grpSpPr>
        <p:sp>
          <p:nvSpPr>
            <p:cNvPr id="46" name="Straight Connector 11"/>
            <p:cNvSpPr/>
            <p:nvPr/>
          </p:nvSpPr>
          <p:spPr>
            <a:xfrm flipH="1">
              <a:off x="927000" y="2565360"/>
              <a:ext cx="7748640" cy="0"/>
            </a:xfrm>
            <a:prstGeom prst="line">
              <a:avLst/>
            </a:prstGeom>
            <a:ln w="9360">
              <a:solidFill>
                <a:srgbClr val="ccc7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62321"/>
                </a:solidFill>
                <a:latin typeface="Arial"/>
              </a:endParaRPr>
            </a:p>
          </p:txBody>
        </p:sp>
        <p:sp>
          <p:nvSpPr>
            <p:cNvPr id="47" name="Straight Connector 12"/>
            <p:cNvSpPr/>
            <p:nvPr/>
          </p:nvSpPr>
          <p:spPr>
            <a:xfrm flipH="1">
              <a:off x="927000" y="4822920"/>
              <a:ext cx="7748640" cy="0"/>
            </a:xfrm>
            <a:prstGeom prst="line">
              <a:avLst/>
            </a:prstGeom>
            <a:ln w="9360">
              <a:solidFill>
                <a:srgbClr val="ccc7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62321"/>
                </a:solidFill>
                <a:latin typeface="Arial"/>
              </a:endParaRPr>
            </a:p>
          </p:txBody>
        </p:sp>
      </p:grpSp>
      <p:pic>
        <p:nvPicPr>
          <p:cNvPr id="48" name="Picture 1" descr="N:\Pictures\img003.jpg"/>
          <p:cNvPicPr/>
          <p:nvPr/>
        </p:nvPicPr>
        <p:blipFill>
          <a:blip r:embed="rId3"/>
          <a:stretch/>
        </p:blipFill>
        <p:spPr>
          <a:xfrm>
            <a:off x="900000" y="2806560"/>
            <a:ext cx="2279880" cy="1847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321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1" marL="343080" indent="-343080">
              <a:spcAft>
                <a:spcPts val="601"/>
              </a:spcAft>
              <a:buClr>
                <a:srgbClr val="43838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2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3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4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5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6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d8c8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d8c8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d8c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31C8-28CC-42D7-8748-8B23E2DE0313}" type="slidenum">
              <a:rPr b="0" lang="en-GB" sz="900" spc="-1" strike="noStrike">
                <a:solidFill>
                  <a:srgbClr val="8d8c8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0"/>
            <a:ext cx="463680" cy="6858000"/>
          </a:xfrm>
          <a:prstGeom prst="rect">
            <a:avLst/>
          </a:prstGeom>
          <a:solidFill>
            <a:srgbClr val="605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91" name="Straight Connector 7"/>
          <p:cNvSpPr/>
          <p:nvPr/>
        </p:nvSpPr>
        <p:spPr>
          <a:xfrm flipH="1">
            <a:off x="942480" y="1515960"/>
            <a:ext cx="7750440" cy="0"/>
          </a:xfrm>
          <a:prstGeom prst="line">
            <a:avLst/>
          </a:prstGeom>
          <a:ln w="9360">
            <a:solidFill>
              <a:srgbClr val="2623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321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1" marL="343080" indent="-343080">
              <a:spcAft>
                <a:spcPts val="601"/>
              </a:spcAft>
              <a:buClr>
                <a:srgbClr val="43838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2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3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4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5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6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d8c8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d8c8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d8c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D601-ECED-4253-9149-EC2A8C7FC814}" type="slidenum">
              <a:rPr b="0" lang="en-GB" sz="900" spc="-1" strike="noStrike">
                <a:solidFill>
                  <a:srgbClr val="8d8c8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0" y="0"/>
            <a:ext cx="463680" cy="6858000"/>
          </a:xfrm>
          <a:prstGeom prst="rect">
            <a:avLst/>
          </a:prstGeom>
          <a:solidFill>
            <a:srgbClr val="605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321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1" marL="343080" indent="-343080">
              <a:spcAft>
                <a:spcPts val="601"/>
              </a:spcAft>
              <a:buClr>
                <a:srgbClr val="43838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2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3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4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5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6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d8c8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d8c8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d8c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1E04-68B5-48CA-AA04-D581B6616C6A}" type="slidenum">
              <a:rPr b="0" lang="en-GB" sz="900" spc="-1" strike="noStrike">
                <a:solidFill>
                  <a:srgbClr val="8d8c8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de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0" y="0"/>
            <a:ext cx="463680" cy="6858000"/>
          </a:xfrm>
          <a:prstGeom prst="rect">
            <a:avLst/>
          </a:prstGeom>
          <a:solidFill>
            <a:srgbClr val="605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321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1" marL="343080" indent="-343080">
              <a:spcAft>
                <a:spcPts val="601"/>
              </a:spcAft>
              <a:buClr>
                <a:srgbClr val="43838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2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3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4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5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6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d8c8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d8c8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d8c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E797-5644-4673-BE9F-E3F0A8491851}" type="slidenum">
              <a:rPr b="0" lang="en-GB" sz="900" spc="-1" strike="noStrike">
                <a:solidFill>
                  <a:srgbClr val="8d8c8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5954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0" y="0"/>
            <a:ext cx="611280" cy="6858000"/>
          </a:xfrm>
          <a:prstGeom prst="rect">
            <a:avLst/>
          </a:prstGeom>
          <a:solidFill>
            <a:srgbClr val="605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321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1" marL="343080" indent="-343080">
              <a:spcAft>
                <a:spcPts val="601"/>
              </a:spcAft>
              <a:buClr>
                <a:srgbClr val="43838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2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3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4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5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6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99D6-AC52-4D19-970A-F1B0030E4DD0}" type="slidenum"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0" y="0"/>
            <a:ext cx="611280" cy="6858000"/>
          </a:xfrm>
          <a:prstGeom prst="rect">
            <a:avLst/>
          </a:prstGeom>
          <a:solidFill>
            <a:srgbClr val="605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321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1" marL="343080" indent="-343080">
              <a:spcAft>
                <a:spcPts val="601"/>
              </a:spcAft>
              <a:buClr>
                <a:srgbClr val="43838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2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3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4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5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6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16E6-0903-44DA-ADAB-70AC5B6FBD9C}" type="slidenum"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5954">
            <a:alpha val="2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0" y="0"/>
            <a:ext cx="611280" cy="6858000"/>
          </a:xfrm>
          <a:prstGeom prst="rect">
            <a:avLst/>
          </a:prstGeom>
          <a:solidFill>
            <a:srgbClr val="605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321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1" marL="343080" indent="-343080">
              <a:spcAft>
                <a:spcPts val="601"/>
              </a:spcAft>
              <a:buClr>
                <a:srgbClr val="43838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2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3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4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5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6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321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1" marL="343080" indent="-343080">
              <a:spcAft>
                <a:spcPts val="601"/>
              </a:spcAft>
              <a:buClr>
                <a:srgbClr val="43838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2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3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4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5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6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d8c8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d8c8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d8c8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60F2-ECB9-418B-87E6-D4F2FA6AD7BB}" type="slidenum">
              <a:rPr b="0" lang="en-GB" sz="900" spc="-1" strike="noStrike">
                <a:solidFill>
                  <a:srgbClr val="8d8c8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492360" y="2701800"/>
            <a:ext cx="5112000" cy="101448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62321"/>
                </a:solidFill>
                <a:latin typeface="Arial Narrow"/>
              </a:rPr>
              <a:t>'We knew nothing about what was going on'</a:t>
            </a: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3530520" y="3805200"/>
            <a:ext cx="507384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3838e"/>
                </a:solidFill>
                <a:latin typeface="Arial Narrow"/>
              </a:rPr>
              <a:t>What does</a:t>
            </a:r>
            <a:r>
              <a:rPr b="0" i="1" lang="en-GB" sz="1600" spc="-1" strike="noStrike">
                <a:solidFill>
                  <a:srgbClr val="43838e"/>
                </a:solidFill>
                <a:latin typeface="Arial Narrow"/>
              </a:rPr>
              <a:t> </a:t>
            </a:r>
            <a:r>
              <a:rPr b="0" lang="en-GB" sz="1600" spc="-1" strike="noStrike">
                <a:solidFill>
                  <a:srgbClr val="43838e"/>
                </a:solidFill>
                <a:latin typeface="Arial Narrow"/>
              </a:rPr>
              <a:t>the evidence suggest about the relationship between the wider German public and the Nazi concentration camps? </a:t>
            </a:r>
            <a:endParaRPr b="0" lang="en-US" sz="16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81" name="Rectangle 2"/>
          <p:cNvSpPr/>
          <p:nvPr/>
        </p:nvSpPr>
        <p:spPr>
          <a:xfrm>
            <a:off x="971640" y="2924280"/>
            <a:ext cx="2016000" cy="15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482" name="Picture 1" descr=""/>
          <p:cNvPicPr/>
          <p:nvPr/>
        </p:nvPicPr>
        <p:blipFill>
          <a:blip r:embed="rId1"/>
          <a:stretch/>
        </p:blipFill>
        <p:spPr>
          <a:xfrm>
            <a:off x="6659640" y="620640"/>
            <a:ext cx="2238120" cy="85716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3132000" y="1320840"/>
            <a:ext cx="3419640" cy="314280"/>
          </a:xfrm>
          <a:prstGeom prst="rect">
            <a:avLst/>
          </a:prstGeom>
          <a:ln w="0">
            <a:noFill/>
          </a:ln>
        </p:spPr>
      </p:pic>
      <p:sp>
        <p:nvSpPr>
          <p:cNvPr id="484" name="Rectangle 1"/>
          <p:cNvSpPr/>
          <p:nvPr/>
        </p:nvSpPr>
        <p:spPr>
          <a:xfrm>
            <a:off x="826920" y="1773360"/>
            <a:ext cx="230508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485" name="Picture 9" descr="C:\Users\Family-PC\Desktop\Homepage (2).png"/>
          <p:cNvPicPr/>
          <p:nvPr/>
        </p:nvPicPr>
        <p:blipFill>
          <a:blip r:embed="rId3"/>
          <a:stretch/>
        </p:blipFill>
        <p:spPr>
          <a:xfrm>
            <a:off x="826920" y="2813040"/>
            <a:ext cx="247500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"/>
          <p:cNvPicPr/>
          <p:nvPr/>
        </p:nvPicPr>
        <p:blipFill>
          <a:blip r:embed="rId1"/>
          <a:srcRect l="11261" t="20472" r="12921" b="52672"/>
          <a:stretch/>
        </p:blipFill>
        <p:spPr>
          <a:xfrm>
            <a:off x="468360" y="476280"/>
            <a:ext cx="8675640" cy="17287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" descr=""/>
          <p:cNvPicPr/>
          <p:nvPr/>
        </p:nvPicPr>
        <p:blipFill>
          <a:blip r:embed="rId2"/>
          <a:srcRect l="11815" t="33268" r="18455" b="14562"/>
          <a:stretch/>
        </p:blipFill>
        <p:spPr>
          <a:xfrm>
            <a:off x="482760" y="2192400"/>
            <a:ext cx="797688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0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66600" y="2565000"/>
            <a:ext cx="77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Narrow"/>
              </a:rPr>
              <a:t>Resources: Evidence Record Cards</a:t>
            </a: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755640" y="1341360"/>
            <a:ext cx="8209080" cy="298440"/>
          </a:xfrm>
          <a:prstGeom prst="rect">
            <a:avLst/>
          </a:prstGeom>
          <a:solidFill>
            <a:srgbClr val="9990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6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509" name="Picture 7" descr=""/>
          <p:cNvPicPr/>
          <p:nvPr/>
        </p:nvPicPr>
        <p:blipFill>
          <a:blip r:embed="rId1"/>
          <a:stretch/>
        </p:blipFill>
        <p:spPr>
          <a:xfrm>
            <a:off x="0" y="133200"/>
            <a:ext cx="9144000" cy="1268640"/>
          </a:xfrm>
          <a:prstGeom prst="rect">
            <a:avLst/>
          </a:prstGeom>
          <a:ln w="0">
            <a:noFill/>
          </a:ln>
        </p:spPr>
      </p:pic>
      <p:sp>
        <p:nvSpPr>
          <p:cNvPr id="510" name="Snip Single Corner Rectangle 11"/>
          <p:cNvSpPr/>
          <p:nvPr/>
        </p:nvSpPr>
        <p:spPr>
          <a:xfrm>
            <a:off x="0" y="6237360"/>
            <a:ext cx="2771640" cy="620640"/>
          </a:xfrm>
          <a:prstGeom prst="pie">
            <a:avLst/>
          </a:prstGeom>
          <a:solidFill>
            <a:srgbClr val="e1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2321"/>
                </a:solidFill>
                <a:latin typeface="Arial Narrow"/>
              </a:rPr>
              <a:t>Evidence Record Card: Document 94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11" name="Rectangle 1"/>
          <p:cNvSpPr/>
          <p:nvPr/>
        </p:nvSpPr>
        <p:spPr>
          <a:xfrm>
            <a:off x="826920" y="1459080"/>
            <a:ext cx="799308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12" name="TextBox 2"/>
          <p:cNvSpPr/>
          <p:nvPr/>
        </p:nvSpPr>
        <p:spPr>
          <a:xfrm>
            <a:off x="6301440" y="607680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62321"/>
                </a:solidFill>
                <a:latin typeface="Arial Narrow"/>
              </a:rPr>
              <a:t>Your Name:</a:t>
            </a: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62321"/>
                </a:solidFill>
                <a:latin typeface="Arial Narrow"/>
              </a:rPr>
              <a:t>Your Group:</a:t>
            </a: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108000" y="1432080"/>
            <a:ext cx="8928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43838e"/>
                </a:solidFill>
                <a:latin typeface="Arial Narrow"/>
              </a:rPr>
              <a:t>What does</a:t>
            </a:r>
            <a:r>
              <a:rPr b="0" i="1" lang="en-GB" sz="1500" spc="-1" strike="noStrike">
                <a:solidFill>
                  <a:srgbClr val="43838e"/>
                </a:solidFill>
                <a:latin typeface="Arial Narrow"/>
              </a:rPr>
              <a:t> </a:t>
            </a:r>
            <a:r>
              <a:rPr b="0" lang="en-GB" sz="1500" spc="-1" strike="noStrike">
                <a:solidFill>
                  <a:srgbClr val="43838e"/>
                </a:solidFill>
                <a:latin typeface="Arial Narrow"/>
              </a:rPr>
              <a:t>the evidence suggest about the relationship between the wider German public and the Nazi concentration camps? </a:t>
            </a:r>
            <a:endParaRPr b="0" lang="en-US" sz="1500" spc="-1" strike="noStrike">
              <a:solidFill>
                <a:srgbClr val="262321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444600" y="2013120"/>
          <a:ext cx="8375400" cy="4063680"/>
        </p:xfrm>
        <a:graphic>
          <a:graphicData uri="http://schemas.openxmlformats.org/drawingml/2006/table">
            <a:tbl>
              <a:tblPr/>
              <a:tblGrid>
                <a:gridCol w="742680"/>
                <a:gridCol w="1081080"/>
                <a:gridCol w="3527640"/>
                <a:gridCol w="1800360"/>
                <a:gridCol w="1223640"/>
              </a:tblGrid>
              <a:tr h="69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e</a:t>
                      </a:r>
                      <a:endParaRPr b="0" lang="en-US" sz="12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6059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2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6059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idence of the relationship between the wider German public and the Nazi concentration camps</a:t>
                      </a:r>
                      <a:endParaRPr b="0" lang="en-US" sz="12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6059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lications</a:t>
                      </a:r>
                      <a:endParaRPr b="0" lang="en-US" sz="12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6059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y further questions?</a:t>
                      </a:r>
                      <a:endParaRPr b="0" lang="en-US" sz="12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605954"/>
                    </a:solidFill>
                  </a:tcPr>
                </a:tc>
              </a:tr>
              <a:tr h="336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1946</a:t>
                      </a: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Ordinary Germans</a:t>
                      </a: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4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What does Eugon Kogon say about popular German knowledge of the concentration camps?</a:t>
                      </a: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6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516" name="Picture 7" descr=""/>
          <p:cNvPicPr/>
          <p:nvPr/>
        </p:nvPicPr>
        <p:blipFill>
          <a:blip r:embed="rId1"/>
          <a:stretch/>
        </p:blipFill>
        <p:spPr>
          <a:xfrm>
            <a:off x="0" y="133200"/>
            <a:ext cx="9144000" cy="1268640"/>
          </a:xfrm>
          <a:prstGeom prst="rect">
            <a:avLst/>
          </a:prstGeom>
          <a:ln w="0">
            <a:noFill/>
          </a:ln>
        </p:spPr>
      </p:pic>
      <p:sp>
        <p:nvSpPr>
          <p:cNvPr id="517" name="Snip Single Corner Rectangle 11"/>
          <p:cNvSpPr/>
          <p:nvPr/>
        </p:nvSpPr>
        <p:spPr>
          <a:xfrm>
            <a:off x="0" y="6237360"/>
            <a:ext cx="2771640" cy="620640"/>
          </a:xfrm>
          <a:prstGeom prst="pie">
            <a:avLst/>
          </a:prstGeom>
          <a:solidFill>
            <a:srgbClr val="e1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2321"/>
                </a:solidFill>
                <a:latin typeface="Arial Narrow"/>
              </a:rPr>
              <a:t>Evidence Record Card: Document 95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18" name="Rectangle 1"/>
          <p:cNvSpPr/>
          <p:nvPr/>
        </p:nvSpPr>
        <p:spPr>
          <a:xfrm>
            <a:off x="826920" y="1459080"/>
            <a:ext cx="799308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19" name="TextBox 2"/>
          <p:cNvSpPr/>
          <p:nvPr/>
        </p:nvSpPr>
        <p:spPr>
          <a:xfrm>
            <a:off x="6301440" y="607680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62321"/>
                </a:solidFill>
                <a:latin typeface="Arial Narrow"/>
              </a:rPr>
              <a:t>Your Name:</a:t>
            </a: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62321"/>
                </a:solidFill>
                <a:latin typeface="Arial Narrow"/>
              </a:rPr>
              <a:t>Your Group:</a:t>
            </a: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108000" y="1432080"/>
            <a:ext cx="8928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43838e"/>
                </a:solidFill>
                <a:latin typeface="Arial Narrow"/>
              </a:rPr>
              <a:t>What does</a:t>
            </a:r>
            <a:r>
              <a:rPr b="0" i="1" lang="en-GB" sz="1500" spc="-1" strike="noStrike">
                <a:solidFill>
                  <a:srgbClr val="43838e"/>
                </a:solidFill>
                <a:latin typeface="Arial Narrow"/>
              </a:rPr>
              <a:t> </a:t>
            </a:r>
            <a:r>
              <a:rPr b="0" lang="en-GB" sz="1500" spc="-1" strike="noStrike">
                <a:solidFill>
                  <a:srgbClr val="43838e"/>
                </a:solidFill>
                <a:latin typeface="Arial Narrow"/>
              </a:rPr>
              <a:t>the evidence suggest about the relationship between the wider German public and the Nazi concentration camps? </a:t>
            </a:r>
            <a:endParaRPr b="0" lang="en-US" sz="1500" spc="-1" strike="noStrike">
              <a:solidFill>
                <a:srgbClr val="262321"/>
              </a:solidFill>
              <a:latin typeface="Arial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444600" y="2013120"/>
          <a:ext cx="8375400" cy="4063680"/>
        </p:xfrm>
        <a:graphic>
          <a:graphicData uri="http://schemas.openxmlformats.org/drawingml/2006/table">
            <a:tbl>
              <a:tblPr/>
              <a:tblGrid>
                <a:gridCol w="742680"/>
                <a:gridCol w="1081080"/>
                <a:gridCol w="3527640"/>
                <a:gridCol w="1871640"/>
                <a:gridCol w="1152360"/>
              </a:tblGrid>
              <a:tr h="69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e</a:t>
                      </a:r>
                      <a:endParaRPr b="0" lang="en-US" sz="12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6059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2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6059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idence of the relationship between the wider German public and the Nazi concentration camps</a:t>
                      </a:r>
                      <a:endParaRPr b="0" lang="en-US" sz="12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6059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lications</a:t>
                      </a:r>
                      <a:endParaRPr b="0" lang="en-US" sz="12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6059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y further questions?</a:t>
                      </a:r>
                      <a:endParaRPr b="0" lang="en-US" sz="12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605954"/>
                    </a:solidFill>
                  </a:tcPr>
                </a:tc>
              </a:tr>
              <a:tr h="336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1936</a:t>
                      </a: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A Nazi magazine reports on Dachau</a:t>
                      </a: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4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Think about how the camps are described in this source. What words are used?</a:t>
                      </a: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4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4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4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4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4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4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4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Think about how the inmates are described in this source. What words are used?</a:t>
                      </a: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6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523" name="Picture 7" descr=""/>
          <p:cNvPicPr/>
          <p:nvPr/>
        </p:nvPicPr>
        <p:blipFill>
          <a:blip r:embed="rId1"/>
          <a:stretch/>
        </p:blipFill>
        <p:spPr>
          <a:xfrm>
            <a:off x="0" y="133200"/>
            <a:ext cx="9144000" cy="1268640"/>
          </a:xfrm>
          <a:prstGeom prst="rect">
            <a:avLst/>
          </a:prstGeom>
          <a:ln w="0">
            <a:noFill/>
          </a:ln>
        </p:spPr>
      </p:pic>
      <p:sp>
        <p:nvSpPr>
          <p:cNvPr id="524" name="Snip Single Corner Rectangle 11"/>
          <p:cNvSpPr/>
          <p:nvPr/>
        </p:nvSpPr>
        <p:spPr>
          <a:xfrm>
            <a:off x="0" y="6237360"/>
            <a:ext cx="2771640" cy="620640"/>
          </a:xfrm>
          <a:prstGeom prst="pie">
            <a:avLst/>
          </a:prstGeom>
          <a:solidFill>
            <a:srgbClr val="e1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2321"/>
                </a:solidFill>
                <a:latin typeface="Arial Narrow"/>
              </a:rPr>
              <a:t>Evidence Record Card: Document 96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25" name="Rectangle 1"/>
          <p:cNvSpPr/>
          <p:nvPr/>
        </p:nvSpPr>
        <p:spPr>
          <a:xfrm>
            <a:off x="826920" y="1459080"/>
            <a:ext cx="799308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26" name="TextBox 2"/>
          <p:cNvSpPr/>
          <p:nvPr/>
        </p:nvSpPr>
        <p:spPr>
          <a:xfrm>
            <a:off x="6301440" y="607680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62321"/>
                </a:solidFill>
                <a:latin typeface="Arial Narrow"/>
              </a:rPr>
              <a:t>Your Name:</a:t>
            </a: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62321"/>
                </a:solidFill>
                <a:latin typeface="Arial Narrow"/>
              </a:rPr>
              <a:t>Your Group:</a:t>
            </a: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108000" y="1432080"/>
            <a:ext cx="8928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43838e"/>
                </a:solidFill>
                <a:latin typeface="Arial Narrow"/>
              </a:rPr>
              <a:t>What does</a:t>
            </a:r>
            <a:r>
              <a:rPr b="0" i="1" lang="en-GB" sz="1500" spc="-1" strike="noStrike">
                <a:solidFill>
                  <a:srgbClr val="43838e"/>
                </a:solidFill>
                <a:latin typeface="Arial Narrow"/>
              </a:rPr>
              <a:t> </a:t>
            </a:r>
            <a:r>
              <a:rPr b="0" lang="en-GB" sz="1500" spc="-1" strike="noStrike">
                <a:solidFill>
                  <a:srgbClr val="43838e"/>
                </a:solidFill>
                <a:latin typeface="Arial Narrow"/>
              </a:rPr>
              <a:t>the evidence suggest about the relationship between the wider German public and the Nazi concentration camps? </a:t>
            </a:r>
            <a:endParaRPr b="0" lang="en-US" sz="1500" spc="-1" strike="noStrike">
              <a:solidFill>
                <a:srgbClr val="262321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444600" y="2013120"/>
          <a:ext cx="8375400" cy="4063680"/>
        </p:xfrm>
        <a:graphic>
          <a:graphicData uri="http://schemas.openxmlformats.org/drawingml/2006/table">
            <a:tbl>
              <a:tblPr/>
              <a:tblGrid>
                <a:gridCol w="742680"/>
                <a:gridCol w="1081080"/>
                <a:gridCol w="3527640"/>
                <a:gridCol w="1871640"/>
                <a:gridCol w="1152360"/>
              </a:tblGrid>
              <a:tr h="69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e</a:t>
                      </a:r>
                      <a:endParaRPr b="0" lang="en-US" sz="12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6059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2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6059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idence of the relationship between the wider German public and the Nazi concentration camps</a:t>
                      </a:r>
                      <a:endParaRPr b="0" lang="en-US" sz="12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6059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lications</a:t>
                      </a:r>
                      <a:endParaRPr b="0" lang="en-US" sz="12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6059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y further questions?</a:t>
                      </a:r>
                      <a:endParaRPr b="0" lang="en-US" sz="12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605954"/>
                    </a:solidFill>
                  </a:tcPr>
                </a:tc>
              </a:tr>
              <a:tr h="336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January1939</a:t>
                      </a: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Radio Broadcast by Heinrich Himmler</a:t>
                      </a: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4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Think about how the camps are described in this source. What words are used?</a:t>
                      </a: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4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4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4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4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4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4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4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Think about how the inmates are described in this source. What words are used?</a:t>
                      </a: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6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530" name="Picture 7" descr=""/>
          <p:cNvPicPr/>
          <p:nvPr/>
        </p:nvPicPr>
        <p:blipFill>
          <a:blip r:embed="rId1"/>
          <a:stretch/>
        </p:blipFill>
        <p:spPr>
          <a:xfrm>
            <a:off x="0" y="133200"/>
            <a:ext cx="9144000" cy="1268640"/>
          </a:xfrm>
          <a:prstGeom prst="rect">
            <a:avLst/>
          </a:prstGeom>
          <a:ln w="0">
            <a:noFill/>
          </a:ln>
        </p:spPr>
      </p:pic>
      <p:sp>
        <p:nvSpPr>
          <p:cNvPr id="531" name="Snip Single Corner Rectangle 11"/>
          <p:cNvSpPr/>
          <p:nvPr/>
        </p:nvSpPr>
        <p:spPr>
          <a:xfrm>
            <a:off x="0" y="6237360"/>
            <a:ext cx="2771640" cy="620640"/>
          </a:xfrm>
          <a:prstGeom prst="pie">
            <a:avLst/>
          </a:prstGeom>
          <a:solidFill>
            <a:srgbClr val="e1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2321"/>
                </a:solidFill>
                <a:latin typeface="Arial Narrow"/>
              </a:rPr>
              <a:t>Evidence Record Card: Document 97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32" name="Rectangle 1"/>
          <p:cNvSpPr/>
          <p:nvPr/>
        </p:nvSpPr>
        <p:spPr>
          <a:xfrm>
            <a:off x="826920" y="1459080"/>
            <a:ext cx="799308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33" name="TextBox 2"/>
          <p:cNvSpPr/>
          <p:nvPr/>
        </p:nvSpPr>
        <p:spPr>
          <a:xfrm>
            <a:off x="6301440" y="607680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62321"/>
                </a:solidFill>
                <a:latin typeface="Arial Narrow"/>
              </a:rPr>
              <a:t>Your Name:</a:t>
            </a: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62321"/>
                </a:solidFill>
                <a:latin typeface="Arial Narrow"/>
              </a:rPr>
              <a:t>Your Group:</a:t>
            </a: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108000" y="1432080"/>
            <a:ext cx="8928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43838e"/>
                </a:solidFill>
                <a:latin typeface="Arial Narrow"/>
              </a:rPr>
              <a:t>What does</a:t>
            </a:r>
            <a:r>
              <a:rPr b="0" i="1" lang="en-GB" sz="1500" spc="-1" strike="noStrike">
                <a:solidFill>
                  <a:srgbClr val="43838e"/>
                </a:solidFill>
                <a:latin typeface="Arial Narrow"/>
              </a:rPr>
              <a:t> </a:t>
            </a:r>
            <a:r>
              <a:rPr b="0" lang="en-GB" sz="1500" spc="-1" strike="noStrike">
                <a:solidFill>
                  <a:srgbClr val="43838e"/>
                </a:solidFill>
                <a:latin typeface="Arial Narrow"/>
              </a:rPr>
              <a:t>the evidence suggest about the relationship between the wider German public and the Nazi concentration camps? </a:t>
            </a:r>
            <a:endParaRPr b="0" lang="en-US" sz="1500" spc="-1" strike="noStrike">
              <a:solidFill>
                <a:srgbClr val="262321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444600" y="2013120"/>
          <a:ext cx="8375400" cy="4063680"/>
        </p:xfrm>
        <a:graphic>
          <a:graphicData uri="http://schemas.openxmlformats.org/drawingml/2006/table">
            <a:tbl>
              <a:tblPr/>
              <a:tblGrid>
                <a:gridCol w="742680"/>
                <a:gridCol w="1081080"/>
                <a:gridCol w="3527640"/>
                <a:gridCol w="1871640"/>
                <a:gridCol w="1152360"/>
              </a:tblGrid>
              <a:tr h="69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e</a:t>
                      </a:r>
                      <a:endParaRPr b="0" lang="en-US" sz="12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6059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2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6059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idence of the relationship between the wider German public and the Nazi concentration camps</a:t>
                      </a:r>
                      <a:endParaRPr b="0" lang="en-US" sz="12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6059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lications</a:t>
                      </a:r>
                      <a:endParaRPr b="0" lang="en-US" sz="12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6059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y further questions?</a:t>
                      </a:r>
                      <a:endParaRPr b="0" lang="en-US" sz="12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605954"/>
                    </a:solidFill>
                  </a:tcPr>
                </a:tc>
              </a:tr>
              <a:tr h="336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After the war</a:t>
                      </a: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German witnesses</a:t>
                      </a: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4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What does the teacher say ‘everyone’ knew about in Nordhausen, even if they later denied this?</a:t>
                      </a: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6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537" name="Picture 7" descr=""/>
          <p:cNvPicPr/>
          <p:nvPr/>
        </p:nvPicPr>
        <p:blipFill>
          <a:blip r:embed="rId1"/>
          <a:stretch/>
        </p:blipFill>
        <p:spPr>
          <a:xfrm>
            <a:off x="0" y="133200"/>
            <a:ext cx="9144000" cy="1268640"/>
          </a:xfrm>
          <a:prstGeom prst="rect">
            <a:avLst/>
          </a:prstGeom>
          <a:ln w="0">
            <a:noFill/>
          </a:ln>
        </p:spPr>
      </p:pic>
      <p:sp>
        <p:nvSpPr>
          <p:cNvPr id="538" name="Snip Single Corner Rectangle 11"/>
          <p:cNvSpPr/>
          <p:nvPr/>
        </p:nvSpPr>
        <p:spPr>
          <a:xfrm>
            <a:off x="0" y="6237360"/>
            <a:ext cx="2771640" cy="620640"/>
          </a:xfrm>
          <a:prstGeom prst="pie">
            <a:avLst/>
          </a:prstGeom>
          <a:solidFill>
            <a:srgbClr val="e1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2321"/>
                </a:solidFill>
                <a:latin typeface="Arial Narrow"/>
              </a:rPr>
              <a:t>Evidence Record Card: Document 98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39" name="Rectangle 1"/>
          <p:cNvSpPr/>
          <p:nvPr/>
        </p:nvSpPr>
        <p:spPr>
          <a:xfrm>
            <a:off x="826920" y="1459080"/>
            <a:ext cx="799308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40" name="TextBox 2"/>
          <p:cNvSpPr/>
          <p:nvPr/>
        </p:nvSpPr>
        <p:spPr>
          <a:xfrm>
            <a:off x="6301440" y="607680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62321"/>
                </a:solidFill>
                <a:latin typeface="Arial Narrow"/>
              </a:rPr>
              <a:t>Your Name:</a:t>
            </a: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62321"/>
                </a:solidFill>
                <a:latin typeface="Arial Narrow"/>
              </a:rPr>
              <a:t>Your Group:</a:t>
            </a: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108000" y="1432080"/>
            <a:ext cx="8928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43838e"/>
                </a:solidFill>
                <a:latin typeface="Arial Narrow"/>
              </a:rPr>
              <a:t>What does</a:t>
            </a:r>
            <a:r>
              <a:rPr b="0" i="1" lang="en-GB" sz="1500" spc="-1" strike="noStrike">
                <a:solidFill>
                  <a:srgbClr val="43838e"/>
                </a:solidFill>
                <a:latin typeface="Arial Narrow"/>
              </a:rPr>
              <a:t> </a:t>
            </a:r>
            <a:r>
              <a:rPr b="0" lang="en-GB" sz="1500" spc="-1" strike="noStrike">
                <a:solidFill>
                  <a:srgbClr val="43838e"/>
                </a:solidFill>
                <a:latin typeface="Arial Narrow"/>
              </a:rPr>
              <a:t>the evidence suggest about the relationship between the wider German public and the Nazi concentration camps? </a:t>
            </a:r>
            <a:endParaRPr b="0" lang="en-US" sz="1500" spc="-1" strike="noStrike">
              <a:solidFill>
                <a:srgbClr val="262321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444600" y="2013120"/>
          <a:ext cx="8375400" cy="4063680"/>
        </p:xfrm>
        <a:graphic>
          <a:graphicData uri="http://schemas.openxmlformats.org/drawingml/2006/table">
            <a:tbl>
              <a:tblPr/>
              <a:tblGrid>
                <a:gridCol w="742680"/>
                <a:gridCol w="1081080"/>
                <a:gridCol w="3527640"/>
                <a:gridCol w="1871640"/>
                <a:gridCol w="1152360"/>
              </a:tblGrid>
              <a:tr h="69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e</a:t>
                      </a:r>
                      <a:endParaRPr b="0" lang="en-US" sz="12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6059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2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6059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idence of the relationship between the wider German public and the Nazi concentration camps</a:t>
                      </a:r>
                      <a:endParaRPr b="0" lang="en-US" sz="12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6059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lications</a:t>
                      </a:r>
                      <a:endParaRPr b="0" lang="en-US" sz="12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6059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y further questions?</a:t>
                      </a:r>
                      <a:endParaRPr b="0" lang="en-US" sz="12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605954"/>
                    </a:solidFill>
                  </a:tcPr>
                </a:tc>
              </a:tr>
              <a:tr h="336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June 1942</a:t>
                      </a: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Local Profiteers</a:t>
                      </a: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4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What does Gretel Meier ask of the Camp Commandant at Flossenburg, and why?</a:t>
                      </a: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6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544" name="Picture 7" descr=""/>
          <p:cNvPicPr/>
          <p:nvPr/>
        </p:nvPicPr>
        <p:blipFill>
          <a:blip r:embed="rId1"/>
          <a:stretch/>
        </p:blipFill>
        <p:spPr>
          <a:xfrm>
            <a:off x="0" y="133200"/>
            <a:ext cx="9144000" cy="1268640"/>
          </a:xfrm>
          <a:prstGeom prst="rect">
            <a:avLst/>
          </a:prstGeom>
          <a:ln w="0">
            <a:noFill/>
          </a:ln>
        </p:spPr>
      </p:pic>
      <p:sp>
        <p:nvSpPr>
          <p:cNvPr id="545" name="Snip Single Corner Rectangle 11"/>
          <p:cNvSpPr/>
          <p:nvPr/>
        </p:nvSpPr>
        <p:spPr>
          <a:xfrm>
            <a:off x="0" y="6237360"/>
            <a:ext cx="2771640" cy="620640"/>
          </a:xfrm>
          <a:prstGeom prst="pie">
            <a:avLst/>
          </a:prstGeom>
          <a:solidFill>
            <a:srgbClr val="e1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2321"/>
                </a:solidFill>
                <a:latin typeface="Arial Narrow"/>
              </a:rPr>
              <a:t>Evidence Record Card: Document 99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46" name="Rectangle 1"/>
          <p:cNvSpPr/>
          <p:nvPr/>
        </p:nvSpPr>
        <p:spPr>
          <a:xfrm>
            <a:off x="826920" y="1459080"/>
            <a:ext cx="799308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47" name="TextBox 2"/>
          <p:cNvSpPr/>
          <p:nvPr/>
        </p:nvSpPr>
        <p:spPr>
          <a:xfrm>
            <a:off x="6301440" y="607680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62321"/>
                </a:solidFill>
                <a:latin typeface="Arial Narrow"/>
              </a:rPr>
              <a:t>Your Name:</a:t>
            </a: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62321"/>
                </a:solidFill>
                <a:latin typeface="Arial Narrow"/>
              </a:rPr>
              <a:t>Your Group:</a:t>
            </a: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108000" y="1432080"/>
            <a:ext cx="8928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43838e"/>
                </a:solidFill>
                <a:latin typeface="Arial Narrow"/>
              </a:rPr>
              <a:t>What does</a:t>
            </a:r>
            <a:r>
              <a:rPr b="0" i="1" lang="en-GB" sz="1500" spc="-1" strike="noStrike">
                <a:solidFill>
                  <a:srgbClr val="43838e"/>
                </a:solidFill>
                <a:latin typeface="Arial Narrow"/>
              </a:rPr>
              <a:t> </a:t>
            </a:r>
            <a:r>
              <a:rPr b="0" lang="en-GB" sz="1500" spc="-1" strike="noStrike">
                <a:solidFill>
                  <a:srgbClr val="43838e"/>
                </a:solidFill>
                <a:latin typeface="Arial Narrow"/>
              </a:rPr>
              <a:t>the evidence suggest about the relationship between the wider German public and the Nazi concentration camps? </a:t>
            </a:r>
            <a:endParaRPr b="0" lang="en-US" sz="1500" spc="-1" strike="noStrike">
              <a:solidFill>
                <a:srgbClr val="262321"/>
              </a:solidFill>
              <a:latin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444600" y="2013120"/>
          <a:ext cx="8375400" cy="4063680"/>
        </p:xfrm>
        <a:graphic>
          <a:graphicData uri="http://schemas.openxmlformats.org/drawingml/2006/table">
            <a:tbl>
              <a:tblPr/>
              <a:tblGrid>
                <a:gridCol w="742680"/>
                <a:gridCol w="1081080"/>
                <a:gridCol w="3527640"/>
                <a:gridCol w="1871640"/>
                <a:gridCol w="1152360"/>
              </a:tblGrid>
              <a:tr h="69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e</a:t>
                      </a:r>
                      <a:endParaRPr b="0" lang="en-US" sz="12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6059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2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6059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idence of the relationship between the wider German public and the Nazi concentration camps</a:t>
                      </a:r>
                      <a:endParaRPr b="0" lang="en-US" sz="12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6059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lications</a:t>
                      </a:r>
                      <a:endParaRPr b="0" lang="en-US" sz="12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6059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y further questions?</a:t>
                      </a:r>
                      <a:endParaRPr b="0" lang="en-US" sz="12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605954"/>
                    </a:solidFill>
                  </a:tcPr>
                </a:tc>
              </a:tr>
              <a:tr h="336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The final months of the war</a:t>
                      </a: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Civilian perpetrators</a:t>
                      </a: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4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What does a former Nazi official testify to?</a:t>
                      </a: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6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551" name="Picture 7" descr=""/>
          <p:cNvPicPr/>
          <p:nvPr/>
        </p:nvPicPr>
        <p:blipFill>
          <a:blip r:embed="rId1"/>
          <a:stretch/>
        </p:blipFill>
        <p:spPr>
          <a:xfrm>
            <a:off x="0" y="133200"/>
            <a:ext cx="9144000" cy="1268640"/>
          </a:xfrm>
          <a:prstGeom prst="rect">
            <a:avLst/>
          </a:prstGeom>
          <a:ln w="0">
            <a:noFill/>
          </a:ln>
        </p:spPr>
      </p:pic>
      <p:sp>
        <p:nvSpPr>
          <p:cNvPr id="552" name="Snip Single Corner Rectangle 11"/>
          <p:cNvSpPr/>
          <p:nvPr/>
        </p:nvSpPr>
        <p:spPr>
          <a:xfrm>
            <a:off x="0" y="6237360"/>
            <a:ext cx="2771640" cy="620640"/>
          </a:xfrm>
          <a:prstGeom prst="pie">
            <a:avLst/>
          </a:prstGeom>
          <a:solidFill>
            <a:srgbClr val="e1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2321"/>
                </a:solidFill>
                <a:latin typeface="Arial Narrow"/>
              </a:rPr>
              <a:t>Evidence Record Card: Document 100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53" name="Rectangle 1"/>
          <p:cNvSpPr/>
          <p:nvPr/>
        </p:nvSpPr>
        <p:spPr>
          <a:xfrm>
            <a:off x="826920" y="1459080"/>
            <a:ext cx="799308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54" name="TextBox 2"/>
          <p:cNvSpPr/>
          <p:nvPr/>
        </p:nvSpPr>
        <p:spPr>
          <a:xfrm>
            <a:off x="6301440" y="607680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62321"/>
                </a:solidFill>
                <a:latin typeface="Arial Narrow"/>
              </a:rPr>
              <a:t>Your Name:</a:t>
            </a: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62321"/>
                </a:solidFill>
                <a:latin typeface="Arial Narrow"/>
              </a:rPr>
              <a:t>Your Group:</a:t>
            </a: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55" name="Rectangle 3"/>
          <p:cNvSpPr/>
          <p:nvPr/>
        </p:nvSpPr>
        <p:spPr>
          <a:xfrm>
            <a:off x="108000" y="1432080"/>
            <a:ext cx="8928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43838e"/>
                </a:solidFill>
                <a:latin typeface="Arial Narrow"/>
              </a:rPr>
              <a:t>What does</a:t>
            </a:r>
            <a:r>
              <a:rPr b="0" i="1" lang="en-GB" sz="1500" spc="-1" strike="noStrike">
                <a:solidFill>
                  <a:srgbClr val="43838e"/>
                </a:solidFill>
                <a:latin typeface="Arial Narrow"/>
              </a:rPr>
              <a:t> </a:t>
            </a:r>
            <a:r>
              <a:rPr b="0" lang="en-GB" sz="1500" spc="-1" strike="noStrike">
                <a:solidFill>
                  <a:srgbClr val="43838e"/>
                </a:solidFill>
                <a:latin typeface="Arial Narrow"/>
              </a:rPr>
              <a:t>the evidence suggest about the relationship between the wider German public and the Nazi concentration camps? </a:t>
            </a:r>
            <a:endParaRPr b="0" lang="en-US" sz="1500" spc="-1" strike="noStrike">
              <a:solidFill>
                <a:srgbClr val="262321"/>
              </a:solidFill>
              <a:latin typeface="Arial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444600" y="2013120"/>
          <a:ext cx="8375400" cy="4063680"/>
        </p:xfrm>
        <a:graphic>
          <a:graphicData uri="http://schemas.openxmlformats.org/drawingml/2006/table">
            <a:tbl>
              <a:tblPr/>
              <a:tblGrid>
                <a:gridCol w="742680"/>
                <a:gridCol w="1081080"/>
                <a:gridCol w="3527640"/>
                <a:gridCol w="1871640"/>
                <a:gridCol w="1152360"/>
              </a:tblGrid>
              <a:tr h="69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e</a:t>
                      </a:r>
                      <a:endParaRPr b="0" lang="en-US" sz="12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6059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2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6059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idence of the relationship between the wider German public and the Nazi concentration camps</a:t>
                      </a:r>
                      <a:endParaRPr b="0" lang="en-US" sz="12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6059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lications</a:t>
                      </a:r>
                      <a:endParaRPr b="0" lang="en-US" sz="12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6059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y further questions?</a:t>
                      </a:r>
                      <a:endParaRPr b="0" lang="en-US" sz="12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605954"/>
                    </a:solidFill>
                  </a:tcPr>
                </a:tc>
              </a:tr>
              <a:tr h="336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After the war / 1944</a:t>
                      </a: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Looking Away</a:t>
                      </a: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4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What did a civilian in Danzig see every morning?</a:t>
                      </a: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4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4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4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4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4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How did she react?</a:t>
                      </a: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6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558" name="Picture 7" descr=""/>
          <p:cNvPicPr/>
          <p:nvPr/>
        </p:nvPicPr>
        <p:blipFill>
          <a:blip r:embed="rId1"/>
          <a:stretch/>
        </p:blipFill>
        <p:spPr>
          <a:xfrm>
            <a:off x="0" y="133200"/>
            <a:ext cx="9144000" cy="1268640"/>
          </a:xfrm>
          <a:prstGeom prst="rect">
            <a:avLst/>
          </a:prstGeom>
          <a:ln w="0">
            <a:noFill/>
          </a:ln>
        </p:spPr>
      </p:pic>
      <p:sp>
        <p:nvSpPr>
          <p:cNvPr id="559" name="Snip Single Corner Rectangle 11"/>
          <p:cNvSpPr/>
          <p:nvPr/>
        </p:nvSpPr>
        <p:spPr>
          <a:xfrm>
            <a:off x="0" y="6237360"/>
            <a:ext cx="2771640" cy="620640"/>
          </a:xfrm>
          <a:prstGeom prst="pie">
            <a:avLst/>
          </a:prstGeom>
          <a:solidFill>
            <a:srgbClr val="e1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2321"/>
                </a:solidFill>
                <a:latin typeface="Arial Narrow"/>
              </a:rPr>
              <a:t>Evidence Record Card: Document 101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60" name="Rectangle 1"/>
          <p:cNvSpPr/>
          <p:nvPr/>
        </p:nvSpPr>
        <p:spPr>
          <a:xfrm>
            <a:off x="826920" y="1459080"/>
            <a:ext cx="799308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61" name="TextBox 2"/>
          <p:cNvSpPr/>
          <p:nvPr/>
        </p:nvSpPr>
        <p:spPr>
          <a:xfrm>
            <a:off x="6301440" y="607680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62321"/>
                </a:solidFill>
                <a:latin typeface="Arial Narrow"/>
              </a:rPr>
              <a:t>Your Name:</a:t>
            </a: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62321"/>
                </a:solidFill>
                <a:latin typeface="Arial Narrow"/>
              </a:rPr>
              <a:t>Your Group:</a:t>
            </a: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108000" y="1432080"/>
            <a:ext cx="8928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43838e"/>
                </a:solidFill>
                <a:latin typeface="Arial Narrow"/>
              </a:rPr>
              <a:t>What does</a:t>
            </a:r>
            <a:r>
              <a:rPr b="0" i="1" lang="en-GB" sz="1500" spc="-1" strike="noStrike">
                <a:solidFill>
                  <a:srgbClr val="43838e"/>
                </a:solidFill>
                <a:latin typeface="Arial Narrow"/>
              </a:rPr>
              <a:t> </a:t>
            </a:r>
            <a:r>
              <a:rPr b="0" lang="en-GB" sz="1500" spc="-1" strike="noStrike">
                <a:solidFill>
                  <a:srgbClr val="43838e"/>
                </a:solidFill>
                <a:latin typeface="Arial Narrow"/>
              </a:rPr>
              <a:t>the evidence suggest about the relationship between the wider German public and the Nazi concentration camps? </a:t>
            </a:r>
            <a:endParaRPr b="0" lang="en-US" sz="1500" spc="-1" strike="noStrike">
              <a:solidFill>
                <a:srgbClr val="262321"/>
              </a:solidFill>
              <a:latin typeface="Arial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444600" y="2013120"/>
          <a:ext cx="8375400" cy="4063680"/>
        </p:xfrm>
        <a:graphic>
          <a:graphicData uri="http://schemas.openxmlformats.org/drawingml/2006/table">
            <a:tbl>
              <a:tblPr/>
              <a:tblGrid>
                <a:gridCol w="742680"/>
                <a:gridCol w="1081080"/>
                <a:gridCol w="3527640"/>
                <a:gridCol w="1871640"/>
                <a:gridCol w="1152360"/>
              </a:tblGrid>
              <a:tr h="69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e</a:t>
                      </a:r>
                      <a:endParaRPr b="0" lang="en-US" sz="12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6059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2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6059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idence of the relationship between the wider German public and the Nazi concentration camps</a:t>
                      </a:r>
                      <a:endParaRPr b="0" lang="en-US" sz="12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6059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lications</a:t>
                      </a:r>
                      <a:endParaRPr b="0" lang="en-US" sz="12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6059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y further questions?</a:t>
                      </a:r>
                      <a:endParaRPr b="0" lang="en-US" sz="12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605954"/>
                    </a:solidFill>
                  </a:tcPr>
                </a:tc>
              </a:tr>
              <a:tr h="336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After the war / 1942-45</a:t>
                      </a: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Aid in occupied Europe</a:t>
                      </a: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4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What does an Auschwitz survivor say about aid he received?</a:t>
                      </a: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3838e"/>
                </a:solidFill>
                <a:latin typeface="Arial Narrow"/>
              </a:rPr>
              <a:t>Take a survey…</a:t>
            </a: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900000" y="16398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3600" spc="-1" strike="noStrike">
                <a:solidFill>
                  <a:srgbClr val="262321"/>
                </a:solidFill>
                <a:latin typeface="Arial Narrow"/>
              </a:rPr>
              <a:t>Who was responsible for the Holocaust?</a:t>
            </a:r>
            <a:endParaRPr b="0" lang="en-US" sz="36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400" spc="-1" strike="noStrike">
                <a:solidFill>
                  <a:srgbClr val="262321"/>
                </a:solidFill>
                <a:latin typeface="Arial Narrow"/>
              </a:rPr>
              <a:t>You have 30 seconds on your own to write down in rough the</a:t>
            </a:r>
            <a:endParaRPr b="0" lang="en-US" sz="24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400" spc="-1" strike="noStrike">
                <a:solidFill>
                  <a:srgbClr val="262321"/>
                </a:solidFill>
                <a:latin typeface="Arial Narrow"/>
              </a:rPr>
              <a:t>answer to the question above.</a:t>
            </a:r>
            <a:endParaRPr b="0" lang="en-US" sz="24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6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565" name="Picture 7" descr=""/>
          <p:cNvPicPr/>
          <p:nvPr/>
        </p:nvPicPr>
        <p:blipFill>
          <a:blip r:embed="rId1"/>
          <a:stretch/>
        </p:blipFill>
        <p:spPr>
          <a:xfrm>
            <a:off x="0" y="133200"/>
            <a:ext cx="9144000" cy="1268640"/>
          </a:xfrm>
          <a:prstGeom prst="rect">
            <a:avLst/>
          </a:prstGeom>
          <a:ln w="0">
            <a:noFill/>
          </a:ln>
        </p:spPr>
      </p:pic>
      <p:sp>
        <p:nvSpPr>
          <p:cNvPr id="566" name="Snip Single Corner Rectangle 11"/>
          <p:cNvSpPr/>
          <p:nvPr/>
        </p:nvSpPr>
        <p:spPr>
          <a:xfrm>
            <a:off x="0" y="6237360"/>
            <a:ext cx="2771640" cy="620640"/>
          </a:xfrm>
          <a:prstGeom prst="pie">
            <a:avLst/>
          </a:prstGeom>
          <a:solidFill>
            <a:srgbClr val="e1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2321"/>
                </a:solidFill>
                <a:latin typeface="Arial Narrow"/>
              </a:rPr>
              <a:t>Evidence Record Card: Document 118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67" name="Rectangle 1"/>
          <p:cNvSpPr/>
          <p:nvPr/>
        </p:nvSpPr>
        <p:spPr>
          <a:xfrm>
            <a:off x="826920" y="1459080"/>
            <a:ext cx="799308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68" name="TextBox 2"/>
          <p:cNvSpPr/>
          <p:nvPr/>
        </p:nvSpPr>
        <p:spPr>
          <a:xfrm>
            <a:off x="6301440" y="607680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62321"/>
                </a:solidFill>
                <a:latin typeface="Arial Narrow"/>
              </a:rPr>
              <a:t>Your Name:</a:t>
            </a: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62321"/>
                </a:solidFill>
                <a:latin typeface="Arial Narrow"/>
              </a:rPr>
              <a:t>Your Group:</a:t>
            </a: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69" name="Rectangle 3"/>
          <p:cNvSpPr/>
          <p:nvPr/>
        </p:nvSpPr>
        <p:spPr>
          <a:xfrm>
            <a:off x="108000" y="1432080"/>
            <a:ext cx="8928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43838e"/>
                </a:solidFill>
                <a:latin typeface="Arial Narrow"/>
              </a:rPr>
              <a:t>What does</a:t>
            </a:r>
            <a:r>
              <a:rPr b="0" i="1" lang="en-GB" sz="1500" spc="-1" strike="noStrike">
                <a:solidFill>
                  <a:srgbClr val="43838e"/>
                </a:solidFill>
                <a:latin typeface="Arial Narrow"/>
              </a:rPr>
              <a:t> </a:t>
            </a:r>
            <a:r>
              <a:rPr b="0" lang="en-GB" sz="1500" spc="-1" strike="noStrike">
                <a:solidFill>
                  <a:srgbClr val="43838e"/>
                </a:solidFill>
                <a:latin typeface="Arial Narrow"/>
              </a:rPr>
              <a:t>the evidence suggest about the relationship between the wider German public and the Nazi concentration camps? </a:t>
            </a:r>
            <a:endParaRPr b="0" lang="en-US" sz="1500" spc="-1" strike="noStrike">
              <a:solidFill>
                <a:srgbClr val="262321"/>
              </a:solidFill>
              <a:latin typeface="Arial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444600" y="2013120"/>
          <a:ext cx="8375400" cy="4063680"/>
        </p:xfrm>
        <a:graphic>
          <a:graphicData uri="http://schemas.openxmlformats.org/drawingml/2006/table">
            <a:tbl>
              <a:tblPr/>
              <a:tblGrid>
                <a:gridCol w="742680"/>
                <a:gridCol w="1081080"/>
                <a:gridCol w="3527640"/>
                <a:gridCol w="1871640"/>
                <a:gridCol w="1152360"/>
              </a:tblGrid>
              <a:tr h="69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e</a:t>
                      </a:r>
                      <a:endParaRPr b="0" lang="en-US" sz="12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6059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2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6059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idence of the relationship between the wider German public and the Nazi concentration camps</a:t>
                      </a:r>
                      <a:endParaRPr b="0" lang="en-US" sz="12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6059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lications</a:t>
                      </a:r>
                      <a:endParaRPr b="0" lang="en-US" sz="12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6059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y further questions?</a:t>
                      </a:r>
                      <a:endParaRPr b="0" lang="en-US" sz="12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605954"/>
                    </a:solidFill>
                  </a:tcPr>
                </a:tc>
              </a:tr>
              <a:tr h="336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April 1945</a:t>
                      </a: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The German Population – A document about a church proclamation in Weimar</a:t>
                      </a: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4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What did US soldiers make hundreds of inhabitants of the German city of Cologne do?</a:t>
                      </a: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4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4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4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4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4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What was their reaction?</a:t>
                      </a: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6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572" name="Picture 7" descr=""/>
          <p:cNvPicPr/>
          <p:nvPr/>
        </p:nvPicPr>
        <p:blipFill>
          <a:blip r:embed="rId1"/>
          <a:stretch/>
        </p:blipFill>
        <p:spPr>
          <a:xfrm>
            <a:off x="0" y="133200"/>
            <a:ext cx="9144000" cy="1268640"/>
          </a:xfrm>
          <a:prstGeom prst="rect">
            <a:avLst/>
          </a:prstGeom>
          <a:ln w="0">
            <a:noFill/>
          </a:ln>
        </p:spPr>
      </p:pic>
      <p:sp>
        <p:nvSpPr>
          <p:cNvPr id="573" name="Snip Single Corner Rectangle 11"/>
          <p:cNvSpPr/>
          <p:nvPr/>
        </p:nvSpPr>
        <p:spPr>
          <a:xfrm>
            <a:off x="0" y="6237360"/>
            <a:ext cx="2771640" cy="620640"/>
          </a:xfrm>
          <a:prstGeom prst="pie">
            <a:avLst/>
          </a:prstGeom>
          <a:solidFill>
            <a:srgbClr val="e1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2321"/>
                </a:solidFill>
                <a:latin typeface="Arial Narrow"/>
              </a:rPr>
              <a:t>Evidence Record Card: Document 119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826920" y="1459080"/>
            <a:ext cx="799308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75" name="TextBox 2"/>
          <p:cNvSpPr/>
          <p:nvPr/>
        </p:nvSpPr>
        <p:spPr>
          <a:xfrm>
            <a:off x="6301440" y="607680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62321"/>
                </a:solidFill>
                <a:latin typeface="Arial Narrow"/>
              </a:rPr>
              <a:t>Your Name:</a:t>
            </a: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62321"/>
                </a:solidFill>
                <a:latin typeface="Arial Narrow"/>
              </a:rPr>
              <a:t>Your Group:</a:t>
            </a: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76" name="Rectangle 3"/>
          <p:cNvSpPr/>
          <p:nvPr/>
        </p:nvSpPr>
        <p:spPr>
          <a:xfrm>
            <a:off x="108000" y="1432080"/>
            <a:ext cx="8928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43838e"/>
                </a:solidFill>
                <a:latin typeface="Arial Narrow"/>
              </a:rPr>
              <a:t>What does</a:t>
            </a:r>
            <a:r>
              <a:rPr b="0" i="1" lang="en-GB" sz="1500" spc="-1" strike="noStrike">
                <a:solidFill>
                  <a:srgbClr val="43838e"/>
                </a:solidFill>
                <a:latin typeface="Arial Narrow"/>
              </a:rPr>
              <a:t> </a:t>
            </a:r>
            <a:r>
              <a:rPr b="0" lang="en-GB" sz="1500" spc="-1" strike="noStrike">
                <a:solidFill>
                  <a:srgbClr val="43838e"/>
                </a:solidFill>
                <a:latin typeface="Arial Narrow"/>
              </a:rPr>
              <a:t>the evidence suggest about the relationship between the wider German public and the Nazi concentration camps? </a:t>
            </a:r>
            <a:endParaRPr b="0" lang="en-US" sz="1500" spc="-1" strike="noStrike">
              <a:solidFill>
                <a:srgbClr val="262321"/>
              </a:solidFill>
              <a:latin typeface="Arial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444600" y="2013120"/>
          <a:ext cx="8375400" cy="4063680"/>
        </p:xfrm>
        <a:graphic>
          <a:graphicData uri="http://schemas.openxmlformats.org/drawingml/2006/table">
            <a:tbl>
              <a:tblPr/>
              <a:tblGrid>
                <a:gridCol w="742680"/>
                <a:gridCol w="1081080"/>
                <a:gridCol w="3527640"/>
                <a:gridCol w="1871640"/>
                <a:gridCol w="1152360"/>
              </a:tblGrid>
              <a:tr h="69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e</a:t>
                      </a:r>
                      <a:endParaRPr b="0" lang="en-US" sz="12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6059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2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6059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idence of the relationship between the wider German public and the Nazi concentration camps</a:t>
                      </a:r>
                      <a:endParaRPr b="0" lang="en-US" sz="12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6059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lications</a:t>
                      </a:r>
                      <a:endParaRPr b="0" lang="en-US" sz="12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6059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y further questions?</a:t>
                      </a:r>
                      <a:endParaRPr b="0" lang="en-US" sz="12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605954"/>
                    </a:solidFill>
                  </a:tcPr>
                </a:tc>
              </a:tr>
              <a:tr h="336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1979</a:t>
                      </a: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opular Opinion - A letter sent to a German TV station after it had broadcast the TV series ‘Holocaust’</a:t>
                      </a: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4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What was his reaction to seeing the TV program?</a:t>
                      </a: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6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579" name="Picture 7" descr=""/>
          <p:cNvPicPr/>
          <p:nvPr/>
        </p:nvPicPr>
        <p:blipFill>
          <a:blip r:embed="rId1"/>
          <a:stretch/>
        </p:blipFill>
        <p:spPr>
          <a:xfrm>
            <a:off x="0" y="133200"/>
            <a:ext cx="9144000" cy="1268640"/>
          </a:xfrm>
          <a:prstGeom prst="rect">
            <a:avLst/>
          </a:prstGeom>
          <a:ln w="0">
            <a:noFill/>
          </a:ln>
        </p:spPr>
      </p:pic>
      <p:sp>
        <p:nvSpPr>
          <p:cNvPr id="580" name="Snip Single Corner Rectangle 11"/>
          <p:cNvSpPr/>
          <p:nvPr/>
        </p:nvSpPr>
        <p:spPr>
          <a:xfrm>
            <a:off x="0" y="6237360"/>
            <a:ext cx="4284720" cy="620640"/>
          </a:xfrm>
          <a:prstGeom prst="pie">
            <a:avLst/>
          </a:prstGeom>
          <a:solidFill>
            <a:srgbClr val="e1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2321"/>
                </a:solidFill>
                <a:latin typeface="Arial Narrow"/>
              </a:rPr>
              <a:t>Evidence Record Card: Video Testimony of Christa M. (from 0.00 to 1.43)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81" name="Rectangle 1"/>
          <p:cNvSpPr/>
          <p:nvPr/>
        </p:nvSpPr>
        <p:spPr>
          <a:xfrm>
            <a:off x="826920" y="1459080"/>
            <a:ext cx="799308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82" name="TextBox 2"/>
          <p:cNvSpPr/>
          <p:nvPr/>
        </p:nvSpPr>
        <p:spPr>
          <a:xfrm>
            <a:off x="6301440" y="607680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62321"/>
                </a:solidFill>
                <a:latin typeface="Arial Narrow"/>
              </a:rPr>
              <a:t>Your Name:</a:t>
            </a: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62321"/>
                </a:solidFill>
                <a:latin typeface="Arial Narrow"/>
              </a:rPr>
              <a:t>Your Group:</a:t>
            </a: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83" name="Rectangle 3"/>
          <p:cNvSpPr/>
          <p:nvPr/>
        </p:nvSpPr>
        <p:spPr>
          <a:xfrm>
            <a:off x="108000" y="1432080"/>
            <a:ext cx="8928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43838e"/>
                </a:solidFill>
                <a:latin typeface="Arial Narrow"/>
              </a:rPr>
              <a:t>What does</a:t>
            </a:r>
            <a:r>
              <a:rPr b="0" i="1" lang="en-GB" sz="1500" spc="-1" strike="noStrike">
                <a:solidFill>
                  <a:srgbClr val="43838e"/>
                </a:solidFill>
                <a:latin typeface="Arial Narrow"/>
              </a:rPr>
              <a:t> </a:t>
            </a:r>
            <a:r>
              <a:rPr b="0" lang="en-GB" sz="1500" spc="-1" strike="noStrike">
                <a:solidFill>
                  <a:srgbClr val="43838e"/>
                </a:solidFill>
                <a:latin typeface="Arial Narrow"/>
              </a:rPr>
              <a:t>the evidence suggest about the relationship between the wider German public and the Nazi concentration camps? </a:t>
            </a:r>
            <a:endParaRPr b="0" lang="en-US" sz="1500" spc="-1" strike="noStrike">
              <a:solidFill>
                <a:srgbClr val="262321"/>
              </a:solidFill>
              <a:latin typeface="Arial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444600" y="2013120"/>
          <a:ext cx="8375400" cy="4063680"/>
        </p:xfrm>
        <a:graphic>
          <a:graphicData uri="http://schemas.openxmlformats.org/drawingml/2006/table">
            <a:tbl>
              <a:tblPr/>
              <a:tblGrid>
                <a:gridCol w="742680"/>
                <a:gridCol w="1081080"/>
                <a:gridCol w="3527640"/>
                <a:gridCol w="1871640"/>
                <a:gridCol w="1152360"/>
              </a:tblGrid>
              <a:tr h="69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e</a:t>
                      </a:r>
                      <a:endParaRPr b="0" lang="en-US" sz="12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6059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2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6059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idence of the relationship between the wider German public and the Nazi concentration camps</a:t>
                      </a:r>
                      <a:endParaRPr b="0" lang="en-US" sz="12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6059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lications</a:t>
                      </a:r>
                      <a:endParaRPr b="0" lang="en-US" sz="12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6059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y further questions?</a:t>
                      </a:r>
                      <a:endParaRPr b="0" lang="en-US" sz="12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605954"/>
                    </a:solidFill>
                  </a:tcPr>
                </a:tc>
              </a:tr>
              <a:tr h="336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1987 </a:t>
                      </a:r>
                      <a:r>
                        <a:rPr b="0" lang="en-GB" sz="12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interviews</a:t>
                      </a:r>
                      <a:endParaRPr b="0" lang="en-US" sz="12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Interview with Christa M., born in 1930 in Germany</a:t>
                      </a: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4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What does Christa M. say about what knowledge people had of the camps at the time?</a:t>
                      </a: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69960" y="2987280"/>
            <a:ext cx="55576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62321"/>
                </a:solidFill>
                <a:latin typeface="Arial Narrow"/>
              </a:rPr>
              <a:t>‘</a:t>
            </a:r>
            <a:r>
              <a:rPr b="1" lang="en-GB" sz="2400" spc="-1" strike="noStrike">
                <a:solidFill>
                  <a:srgbClr val="262321"/>
                </a:solidFill>
                <a:latin typeface="Arial Narrow"/>
              </a:rPr>
              <a:t>We knew nothing about what was going on’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262321"/>
                </a:solidFill>
                <a:latin typeface="Arial Narrow"/>
              </a:rPr>
              <a:t>What does</a:t>
            </a:r>
            <a:r>
              <a:rPr b="1" i="1" lang="en-GB" sz="2400" spc="-1" strike="noStrike">
                <a:solidFill>
                  <a:srgbClr val="262321"/>
                </a:solidFill>
                <a:latin typeface="Arial Narrow"/>
              </a:rPr>
              <a:t> </a:t>
            </a:r>
            <a:r>
              <a:rPr b="1" lang="en-GB" sz="2400" spc="-1" strike="noStrike">
                <a:solidFill>
                  <a:srgbClr val="262321"/>
                </a:solidFill>
                <a:latin typeface="Arial Narrow"/>
              </a:rPr>
              <a:t>the evidence suggest about the relationship between the wider German public and the Nazi concentration camps? </a:t>
            </a:r>
            <a:endParaRPr b="1" lang="en-US" sz="24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586" name="Rectangle 1"/>
          <p:cNvSpPr/>
          <p:nvPr/>
        </p:nvSpPr>
        <p:spPr>
          <a:xfrm>
            <a:off x="6659640" y="2637000"/>
            <a:ext cx="2016000" cy="15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587" name="Picture 4" descr=""/>
          <p:cNvPicPr/>
          <p:nvPr/>
        </p:nvPicPr>
        <p:blipFill>
          <a:blip r:embed="rId1"/>
          <a:srcRect l="15274" t="0" r="10341" b="0"/>
          <a:stretch/>
        </p:blipFill>
        <p:spPr>
          <a:xfrm>
            <a:off x="6689880" y="2637000"/>
            <a:ext cx="2025360" cy="162396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" descr=""/>
          <p:cNvPicPr/>
          <p:nvPr/>
        </p:nvPicPr>
        <p:blipFill>
          <a:blip r:embed="rId2"/>
          <a:stretch/>
        </p:blipFill>
        <p:spPr>
          <a:xfrm>
            <a:off x="6659640" y="620640"/>
            <a:ext cx="2238120" cy="85716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5" descr=""/>
          <p:cNvPicPr/>
          <p:nvPr/>
        </p:nvPicPr>
        <p:blipFill>
          <a:blip r:embed="rId3"/>
          <a:stretch/>
        </p:blipFill>
        <p:spPr>
          <a:xfrm>
            <a:off x="3132000" y="1320840"/>
            <a:ext cx="341964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3838e"/>
                </a:solidFill>
                <a:latin typeface="Arial Narrow"/>
              </a:rPr>
              <a:t>Take a survey… what do we think?</a:t>
            </a: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900000" y="16398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262321"/>
                </a:solidFill>
                <a:latin typeface="Arial Narrow"/>
              </a:rPr>
              <a:t>Hitler</a:t>
            </a: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262321"/>
                </a:solidFill>
                <a:latin typeface="Arial Narrow"/>
              </a:rPr>
              <a:t>Hitler and the Nazis</a:t>
            </a: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262321"/>
                </a:solidFill>
                <a:latin typeface="Arial Narrow"/>
              </a:rPr>
              <a:t>Hitler and the SS and/or other named individual</a:t>
            </a: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262321"/>
                </a:solidFill>
                <a:latin typeface="Arial Narrow"/>
              </a:rPr>
              <a:t>Hitler and the Germans / Germany</a:t>
            </a: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262321"/>
                </a:solidFill>
                <a:latin typeface="Arial Narrow"/>
              </a:rPr>
              <a:t>Hitler, the Nazis and Germany</a:t>
            </a: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262321"/>
                </a:solidFill>
                <a:latin typeface="Arial Narrow"/>
              </a:rPr>
              <a:t>Hitler, the Nazis and the SS</a:t>
            </a: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262321"/>
                </a:solidFill>
                <a:latin typeface="Arial Narrow"/>
              </a:rPr>
              <a:t>Nazis with no reference to Hitler</a:t>
            </a: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262321"/>
                </a:solidFill>
                <a:latin typeface="Arial Narrow"/>
              </a:rPr>
              <a:t>Germans / Germany / German people</a:t>
            </a: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262321"/>
                </a:solidFill>
                <a:latin typeface="Arial Narrow"/>
              </a:rPr>
              <a:t>Nazis and Germans</a:t>
            </a: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262321"/>
                </a:solidFill>
                <a:latin typeface="Arial Narrow"/>
              </a:rPr>
              <a:t>A relevant answer that did not fit the categories</a:t>
            </a: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262321"/>
                </a:solidFill>
                <a:latin typeface="Arial Narrow"/>
              </a:rPr>
              <a:t>Inaccurate answer</a:t>
            </a: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900000" y="16398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262321"/>
                </a:solidFill>
                <a:latin typeface="Arial Narrow"/>
              </a:rPr>
              <a:t>In 2015, UCL Centre for Holocaust Education surveyed students from</a:t>
            </a: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262321"/>
                </a:solidFill>
                <a:latin typeface="Arial Narrow"/>
              </a:rPr>
              <a:t>a variety of schools from all over England to find out about their</a:t>
            </a: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262321"/>
                </a:solidFill>
                <a:latin typeface="Arial Narrow"/>
              </a:rPr>
              <a:t>knowledge and understanding of the Holocaust.</a:t>
            </a: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262321"/>
                </a:solidFill>
                <a:latin typeface="Arial Narrow"/>
              </a:rPr>
              <a:t>Question 42 asked; “Who was responsible for the Holocaust?” They</a:t>
            </a: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262321"/>
                </a:solidFill>
                <a:latin typeface="Arial Narrow"/>
              </a:rPr>
              <a:t>had a blank box to record their answers, just as you have just done.</a:t>
            </a: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262321"/>
                </a:solidFill>
                <a:latin typeface="Arial Narrow"/>
              </a:rPr>
              <a:t>6,897 students from all around England gave an answer to this</a:t>
            </a: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262321"/>
                </a:solidFill>
                <a:latin typeface="Arial Narrow"/>
              </a:rPr>
              <a:t>question. What do you think they said? What might the most popular</a:t>
            </a: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200" spc="-1" strike="noStrike">
                <a:solidFill>
                  <a:srgbClr val="262321"/>
                </a:solidFill>
                <a:latin typeface="Arial Narrow"/>
              </a:rPr>
              <a:t>answers be?</a:t>
            </a: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3838e"/>
                </a:solidFill>
                <a:latin typeface="Arial Narrow"/>
              </a:rPr>
              <a:t>Take a survey… what do 6,897 students think?</a:t>
            </a: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3" descr=""/>
          <p:cNvPicPr/>
          <p:nvPr/>
        </p:nvPicPr>
        <p:blipFill>
          <a:blip r:embed="rId1"/>
          <a:srcRect l="18817" t="3937" r="23626" b="4518"/>
          <a:stretch/>
        </p:blipFill>
        <p:spPr>
          <a:xfrm>
            <a:off x="1974960" y="189000"/>
            <a:ext cx="7086600" cy="6335640"/>
          </a:xfrm>
          <a:prstGeom prst="rect">
            <a:avLst/>
          </a:prstGeom>
          <a:ln w="0">
            <a:noFill/>
          </a:ln>
        </p:spPr>
      </p:pic>
      <p:sp>
        <p:nvSpPr>
          <p:cNvPr id="493" name="Oval 4"/>
          <p:cNvSpPr/>
          <p:nvPr/>
        </p:nvSpPr>
        <p:spPr>
          <a:xfrm>
            <a:off x="2239920" y="4694400"/>
            <a:ext cx="647640" cy="649080"/>
          </a:xfrm>
          <a:prstGeom prst="ellipse">
            <a:avLst/>
          </a:prstGeom>
          <a:solidFill>
            <a:srgbClr val="ffff00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94" name="Oval 6"/>
          <p:cNvSpPr/>
          <p:nvPr/>
        </p:nvSpPr>
        <p:spPr>
          <a:xfrm>
            <a:off x="2301840" y="3848040"/>
            <a:ext cx="649440" cy="647640"/>
          </a:xfrm>
          <a:prstGeom prst="ellipse">
            <a:avLst/>
          </a:prstGeom>
          <a:solidFill>
            <a:srgbClr val="ffff00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95" name="Rectangle 1"/>
          <p:cNvSpPr/>
          <p:nvPr/>
        </p:nvSpPr>
        <p:spPr>
          <a:xfrm>
            <a:off x="900000" y="1417680"/>
            <a:ext cx="778680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96" name="Title 1"/>
          <p:cNvSpPr/>
          <p:nvPr/>
        </p:nvSpPr>
        <p:spPr>
          <a:xfrm>
            <a:off x="560520" y="981000"/>
            <a:ext cx="1942920" cy="33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3838e"/>
                </a:solidFill>
                <a:latin typeface="Arial Narrow"/>
                <a:ea typeface="Arial"/>
              </a:rPr>
              <a:t>Take a survey… </a:t>
            </a:r>
            <a:endParaRPr b="0" lang="en-US" sz="2800" spc="-1" strike="noStrike">
              <a:solidFill>
                <a:srgbClr val="26232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32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3838e"/>
                </a:solidFill>
                <a:latin typeface="Arial Narrow"/>
                <a:ea typeface="Arial"/>
              </a:rPr>
              <a:t>what do 6,897 students think?</a:t>
            </a:r>
            <a:endParaRPr b="0" lang="en-US" sz="28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3838e"/>
                </a:solidFill>
                <a:latin typeface="Arial Narrow"/>
              </a:rPr>
              <a:t>Case study</a:t>
            </a: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900000" y="16398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800" spc="-1" strike="noStrike">
                <a:solidFill>
                  <a:srgbClr val="262321"/>
                </a:solidFill>
                <a:latin typeface="Arial Narrow"/>
              </a:rPr>
              <a:t>Enquiry;</a:t>
            </a:r>
            <a:endParaRPr b="0" lang="en-US" sz="28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800" spc="-1" strike="noStrike">
                <a:solidFill>
                  <a:srgbClr val="262321"/>
                </a:solidFill>
                <a:latin typeface="Arial Narrow"/>
              </a:rPr>
              <a:t>What does</a:t>
            </a:r>
            <a:r>
              <a:rPr b="1" i="1" lang="en-GB" sz="2800" spc="-1" strike="noStrike">
                <a:solidFill>
                  <a:srgbClr val="262321"/>
                </a:solidFill>
                <a:latin typeface="Arial Narrow"/>
              </a:rPr>
              <a:t> </a:t>
            </a:r>
            <a:r>
              <a:rPr b="1" lang="en-GB" sz="2800" spc="-1" strike="noStrike">
                <a:solidFill>
                  <a:srgbClr val="262321"/>
                </a:solidFill>
                <a:latin typeface="Arial Narrow"/>
              </a:rPr>
              <a:t>the evidence suggest about the</a:t>
            </a:r>
            <a:endParaRPr b="0" lang="en-US" sz="28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800" spc="-1" strike="noStrike">
                <a:solidFill>
                  <a:srgbClr val="262321"/>
                </a:solidFill>
                <a:latin typeface="Arial Narrow"/>
              </a:rPr>
              <a:t>relationship between the wider German public and the</a:t>
            </a:r>
            <a:endParaRPr b="0" lang="en-US" sz="28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800" spc="-1" strike="noStrike">
                <a:solidFill>
                  <a:srgbClr val="262321"/>
                </a:solidFill>
                <a:latin typeface="Arial Narrow"/>
              </a:rPr>
              <a:t>Nazi concentration camps? </a:t>
            </a:r>
            <a:endParaRPr b="0" lang="en-US" sz="28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3838e"/>
                </a:solidFill>
                <a:latin typeface="Arial Narrow"/>
              </a:rPr>
              <a:t>Reflection</a:t>
            </a: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900000" y="1639440"/>
            <a:ext cx="7786800" cy="48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43838e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262321"/>
                </a:solidFill>
                <a:latin typeface="Arial Narrow"/>
              </a:rPr>
              <a:t>Look back at the evidence you have gathered and consider how you would now respond to the enquiry question. Select 3 or 4 pieces of evidence that would either support or counter the initial quote, ‘We knew nothing about what was going on’, and be ready to explain how and why they do?</a:t>
            </a:r>
            <a:endParaRPr b="0" lang="en-US" sz="2400" spc="-1" strike="noStrike">
              <a:solidFill>
                <a:srgbClr val="262321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62321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43838e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262321"/>
                </a:solidFill>
                <a:latin typeface="Arial Narrow"/>
              </a:rPr>
              <a:t>At the beginning of the lesson, you were asked a broader question from the survey, ‘Who was responsible for the Holocaust?’ From this investigation, what would you now say, and why? </a:t>
            </a:r>
            <a:endParaRPr b="0" lang="en-US" sz="24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4" descr=""/>
          <p:cNvPicPr/>
          <p:nvPr/>
        </p:nvPicPr>
        <p:blipFill>
          <a:blip r:embed="rId1"/>
          <a:srcRect l="11261" t="20472" r="12921" b="10625"/>
          <a:stretch/>
        </p:blipFill>
        <p:spPr>
          <a:xfrm>
            <a:off x="468360" y="476280"/>
            <a:ext cx="867564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4" descr=""/>
          <p:cNvPicPr/>
          <p:nvPr/>
        </p:nvPicPr>
        <p:blipFill>
          <a:blip r:embed="rId1"/>
          <a:srcRect l="11261" t="20472" r="12921" b="52672"/>
          <a:stretch/>
        </p:blipFill>
        <p:spPr>
          <a:xfrm>
            <a:off x="468360" y="476280"/>
            <a:ext cx="8675640" cy="17287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" descr=""/>
          <p:cNvPicPr/>
          <p:nvPr/>
        </p:nvPicPr>
        <p:blipFill>
          <a:blip r:embed="rId2"/>
          <a:srcRect l="11815" t="33268" r="19562" b="17520"/>
          <a:stretch/>
        </p:blipFill>
        <p:spPr>
          <a:xfrm>
            <a:off x="468360" y="2133720"/>
            <a:ext cx="806436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6T16:57:49Z</dcterms:created>
  <dc:creator>Cloned Ltd</dc:creator>
  <dc:description/>
  <dc:language>en-US</dc:language>
  <cp:lastModifiedBy>Family-PC</cp:lastModifiedBy>
  <cp:lastPrinted>2016-05-20T12:39:17Z</cp:lastPrinted>
  <dcterms:modified xsi:type="dcterms:W3CDTF">2016-11-04T14:39:00Z</dcterms:modified>
  <cp:revision>468</cp:revision>
  <dc:subject/>
  <dc:title>Slide 1</dc:title>
</cp:coreProperties>
</file>