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4C21-0E31-414B-BF65-075B5C90F4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D9868-3885-424C-A0A0-85C4247914B2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4F830-DB4E-48F0-86B0-3A8039F0771B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ED39-C5E6-431E-AD15-AEE77527E262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CD99-DB81-4A26-BB26-BBBE3A6ADE9B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CE67-70F6-470B-81B1-D8A4FDAC270A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AAC3-A284-41DA-B280-A1A52713EB20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BA50-B412-410E-970A-34D127CD5A9F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323B-4877-4C1E-A986-93B13AB9909A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4B3A-F3AC-4B7D-8265-6466226193F4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9C28-D523-461A-BBE9-35FDA2E55C95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7930-B842-4B29-8F35-0C59D75D68C3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F49D-9D60-4EE0-ACEE-AA4A6F8F23DF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C3D3-F9EA-45AB-B3D2-EB8BAD260FB5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5E78-0B92-4F9A-A8B3-58F8092DAB0D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F110-ADE0-4423-A592-A219B4B81C96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8668-AC35-47B6-92DA-05EFD58710C5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9D16-F2AA-4EDA-9BB3-19D65E4C05EB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45E7-A9A2-4125-B331-058AEAC92BBD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CAA5-5B63-49B0-9C25-34FE1B02D26B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E7E6-D00C-4C97-BF3F-8CED08E3A462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C3EA-7D13-47B4-BFBF-B298D1CFE95E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6BD0-3F05-487C-92DB-A04772726022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1D52-3F50-4653-94D6-6E5F57B7395C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38AF-4A84-4B47-82F8-C9BCBAEAF962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6ECE-0524-451F-A20F-29611C76150C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E37B-FF2E-45CC-A765-46963FD6FEB8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B8249-5975-4A08-9DB5-AF494D643DD4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240F-B058-4A3F-BF6E-A30B56B97587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9715-2A36-49BF-86E7-93DA53A60E5D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CD5B-C55B-4AA2-8C66-AEBD1EC2442D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C507-2EDD-44AE-BFFA-9B24DDDA73CB}" type="slidenum">
              <a:rPr b="0" lang="en-GB" sz="1200" spc="-1" strike="noStrike">
                <a:solidFill>
                  <a:srgbClr val="262321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5748-8ED1-4ABE-ADB6-3CD0CFB4A68A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984A-E220-4733-BFB8-2D885F9E7FE5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3389-24E9-45B2-BCBF-78B2217045B3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E0BD-5ECE-48D2-9D4A-AD7294F06F99}" type="slidenum">
              <a:rPr b="0" lang="en-GB" sz="1200" spc="-1" strike="noStrike">
                <a:solidFill>
                  <a:srgbClr val="26232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B12-2BB9-47E7-90EF-8AC271DA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CD9C-7EEA-4554-894F-25FAC65B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D58D99-E58D-4891-A8AC-38F5364E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1AEA41-5D6D-4FCA-91A3-BBA11D10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B88927-186C-484B-BBBD-F77D3705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864ED6-EA74-4B2F-8E9B-22EC359F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0E7982-FF56-4CAF-8BBA-E6BD7DC2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B7BBE6-C844-42EC-A9FE-9CFB8B9E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DCA3A0-1550-4705-9C72-1CB1DE5E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53FD0E-7203-466D-A73F-413B5594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93F5FB-B9F5-4CC1-A0DB-5233EE86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F5BDEE-63EC-42B7-8BC9-F199C491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F47A-26D8-4CE9-827F-2213EDA2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8A776C-C158-45DB-BB9B-8C00DC6B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4558DA-0856-4D78-8EDA-0D157263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C42EA3-35FE-4114-ADBC-878780B9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BE6340-C8C3-4E5D-9969-D10BFD09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CC1C83-2EFA-48CA-89B2-1B0D8A90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229A85-70CA-4256-A478-7266A58D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28C9D2-8162-45CD-97AE-02843322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ECFE38-D40D-48F6-947A-FEA20306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73F1A6-A81A-4A93-AE18-3F2BC1DB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956AF0-0969-468B-99D1-7B5A735C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DAB-BE81-43FE-BAD2-4F3FA878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50EEC7-2495-4839-8065-8B12E622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9C7D6-0CAB-4EAD-AA1F-704EA7B189C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3C4E4-904C-457C-804C-CFB3EFC3981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44E0B-9596-4AAE-90BE-7DF178A1C15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63CF1-CC95-4073-A5F3-052C6037031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A2785-FA47-4534-BD89-120DF329050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7A79A-B88E-4D68-8D3E-A219D86ECC8C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801B2-2003-498A-B33C-FBAC3E27982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98347-3CA4-45CE-9D58-EC9173C68A1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2DC54-7379-40D5-A08A-59E6DBE86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C60E-EE3F-424A-A52F-6B202AD3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89660-DEF3-4793-96C2-941178CBF9B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B4071-7454-47FF-9EF1-27369EC2236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241939-5506-44E2-9E2E-D78168A64D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43EE-0F4B-496F-B62F-FB378E4F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A7A7-31A7-4A76-AEB0-50D13119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E606-EEA1-496C-BB68-BCCB113EF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2055-AA20-4219-BCEC-622B2126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C3CB-DE47-4AE6-8150-23785AEE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FF15-E8BE-451C-A1AA-C9876E90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1174-8E08-47D2-974A-07E5E67C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4503-1E12-44EB-8825-DCD42E30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EE1C-227B-4936-93AB-1575DDD6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7CE1-B806-401A-8617-7B647F23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17E3-1EED-4D17-AE67-4FB652436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B3A1-2742-49E2-B1DA-2C83E6AB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091E4-7007-4501-B740-30B4342E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E1F53-EAB2-40E3-B02B-99533D7E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33EE6-D840-4EDE-BFD3-D28799CE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5B3BB-E403-4E69-89D3-2CBAA005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402C5-E108-4E83-9401-9F76B60B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9B16-32DC-4275-9FC1-65525C1A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48538-0F5D-410B-902D-F775AFE8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0D933-B36A-48FB-B5D0-371F9584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D336-7220-43E4-85BA-EAD4DF1E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5AFB1-4270-41AA-8DFF-AA292533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0E6D3-5C3A-441C-9F60-0BC70D443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D93AF-1568-4ED0-BD48-A13D38587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84E88-B084-4543-8257-E651D322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0D954-B9A5-461E-B1C2-BF04744F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B75AB-AE8D-42D8-A5F9-5B817025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1E112-C5E7-4A6E-B57F-266E1D1B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6915-A826-4B27-8213-27BD2CA8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0F1F7-99D1-4988-814C-6860FCAB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4DA6D-F378-43B1-B1FD-8CA3DD7E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AC62B-99E8-4558-B2E8-4559FC06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A055C-FF87-4E3A-B5CC-9D45C0AD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2B70E-21E9-4DDF-BF44-1A20D8DF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531F0-8E46-49A3-8CF2-CB438C99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3E9F3-DD36-4F64-B72B-764CC3C5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6FF24-635D-4930-B9AC-3E24378C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005CB-FE59-49D5-A28A-13390212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FCC37-D377-4B76-B627-F9F91ED7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8CB1-A062-4E59-B190-E73DA84D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34071-BBFD-4A87-AA0B-9A6092E7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81BA7-0C5C-4D3F-9874-5646AB4E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A6791-90B2-4D8F-BCFD-A7CB089D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52D15-06A6-4764-A8DD-CF51C9D2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0B3EC-D537-4CAB-92CB-AB1754682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AE464-2FF8-4D55-B9CE-9B9CD912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48B6D-CB25-44CA-B57D-53D36068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848C4-ECD5-4E92-A78A-ABC1A12D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3C412-D9A1-4236-9267-73778B57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5C8AF-1098-4F19-887B-A8BF8348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793D-36F4-4EFE-94CE-40C77309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2FE8F-C5A2-46B8-9EE5-8815C3EC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E7392-9DFB-459A-A8F9-295EAF07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70B4A-C1BD-441A-A59A-C4B08C47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4CF1EA-8904-4C66-BC96-C37B376F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72FE0-2348-422E-9B5E-6F4839E35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492B1-722C-42E9-9D45-5C3D3A86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64214-D8CC-4181-99FF-EB65691E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D8A07-1DFB-4E30-9A60-EF33345E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AA80B-5C1C-4FEB-BECA-34D174D1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056B4-D849-4637-A78C-2E0FD428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D2FD-0AE6-408E-96EC-50C75224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9CB08-BC70-483A-A500-030B25EC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A8A69-C5D3-4682-AC7F-B5872F7E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FD05A-D41C-4F77-B732-D6401BF85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17647-8E7D-4CB2-9828-31EDB1810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35338-690F-4CF2-8DC7-2C150C9B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05631-2C78-4CE9-A1E4-AC0649CF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59C94-32AA-4219-B33B-793E0A13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34A3E-A4CD-42C0-A653-C8F62BCB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07361-DECF-462C-87E2-47112148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776BC-C2AD-4F5A-B3CC-3661E88E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E281-FFE8-4B58-943F-3AF2A5D2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777E3-9C75-49D7-B492-8B844A09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B6F47-7B2C-41FD-AAD3-B87E9A45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E7B0C-589E-4A63-A260-D7E1D641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86219-E512-4636-AFFA-D93FD233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B6649-9519-49F9-BA1F-B4EF41C14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6EE5-3DAB-41F1-A754-EA175C6B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00000" y="43920"/>
            <a:ext cx="77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00000" y="3964320"/>
            <a:ext cx="77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0240" y="160020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0000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890240" y="3964320"/>
            <a:ext cx="3799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53268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165720" y="160020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0000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53268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165720" y="3964320"/>
            <a:ext cx="2507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FDECA5-B24A-4D43-9C19-42F18617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A5E08C-713A-4F92-8350-4DC8B3F2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359859-6647-400D-987D-F3B90DF5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71E1-BE83-4991-B264-D7221E76F285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A459-3924-4956-8C52-94884206FB29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12"/>
          <p:cNvGrpSpPr/>
          <p:nvPr/>
        </p:nvGrpSpPr>
        <p:grpSpPr>
          <a:xfrm>
            <a:off x="-6480" y="1854360"/>
            <a:ext cx="9150840" cy="3168360"/>
            <a:chOff x="-6480" y="1854360"/>
            <a:chExt cx="9150840" cy="3168360"/>
          </a:xfrm>
        </p:grpSpPr>
        <p:sp>
          <p:nvSpPr>
            <p:cNvPr id="425" name="Rectangle 7"/>
            <p:cNvSpPr/>
            <p:nvPr/>
          </p:nvSpPr>
          <p:spPr>
            <a:xfrm>
              <a:off x="0" y="1854360"/>
              <a:ext cx="9144360" cy="3168360"/>
            </a:xfrm>
            <a:prstGeom prst="rect">
              <a:avLst/>
            </a:prstGeom>
            <a:solidFill>
              <a:srgbClr val="605954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ctr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262321"/>
                </a:solidFill>
                <a:latin typeface="Arial"/>
              </a:endParaRPr>
            </a:p>
          </p:txBody>
        </p:sp>
        <p:sp>
          <p:nvSpPr>
            <p:cNvPr id="426" name="Rectangle 8"/>
            <p:cNvSpPr/>
            <p:nvPr/>
          </p:nvSpPr>
          <p:spPr>
            <a:xfrm>
              <a:off x="-6480" y="1854360"/>
              <a:ext cx="463320" cy="3168360"/>
            </a:xfrm>
            <a:prstGeom prst="rect">
              <a:avLst/>
            </a:prstGeom>
            <a:solidFill>
              <a:srgbClr val="6059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800" rIns="73800" tIns="36720" bIns="3672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262321"/>
                </a:solidFill>
                <a:latin typeface="Arial"/>
              </a:endParaRPr>
            </a:p>
          </p:txBody>
        </p:sp>
      </p:grpSp>
      <p:sp>
        <p:nvSpPr>
          <p:cNvPr id="427" name="Rectangle 9"/>
          <p:cNvSpPr/>
          <p:nvPr/>
        </p:nvSpPr>
        <p:spPr>
          <a:xfrm>
            <a:off x="260280" y="5827680"/>
            <a:ext cx="50324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62321"/>
                </a:solidFill>
                <a:latin typeface="Arial Narrow"/>
              </a:rPr>
              <a:t>Institute of Education</a:t>
            </a:r>
            <a:r>
              <a:rPr b="0" lang="en-GB" sz="1200" spc="-1" strike="noStrike">
                <a:solidFill>
                  <a:srgbClr val="262321"/>
                </a:solidFill>
                <a:latin typeface="Arial Narrow"/>
              </a:rPr>
              <a:t>, University of London, 20 Bedford Way, London, WC1H 0AL,  </a:t>
            </a:r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28" name="Rectangle 10"/>
          <p:cNvSpPr/>
          <p:nvPr/>
        </p:nvSpPr>
        <p:spPr>
          <a:xfrm>
            <a:off x="260280" y="6041880"/>
            <a:ext cx="68328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262321"/>
                </a:solidFill>
                <a:latin typeface="Arial Narrow"/>
              </a:rPr>
              <a:t>tel:</a:t>
            </a:r>
            <a:r>
              <a:rPr b="0" lang="en-GB" sz="1200" spc="-1" strike="noStrike">
                <a:solidFill>
                  <a:srgbClr val="262321"/>
                </a:solidFill>
                <a:latin typeface="Arial Narrow"/>
              </a:rPr>
              <a:t> +44(0)20 7612 6437    </a:t>
            </a:r>
            <a:r>
              <a:rPr b="1" lang="en-GB" sz="1200" spc="-1" strike="noStrike">
                <a:solidFill>
                  <a:srgbClr val="262321"/>
                </a:solidFill>
                <a:latin typeface="Arial Narrow"/>
              </a:rPr>
              <a:t>fax:</a:t>
            </a:r>
            <a:r>
              <a:rPr b="0" lang="en-GB" sz="1200" spc="-1" strike="noStrike">
                <a:solidFill>
                  <a:srgbClr val="262321"/>
                </a:solidFill>
                <a:latin typeface="Arial Narrow"/>
              </a:rPr>
              <a:t> +44(0)20 7612 6126    </a:t>
            </a:r>
            <a:r>
              <a:rPr b="1" lang="en-GB" sz="1200" spc="-1" strike="noStrike">
                <a:solidFill>
                  <a:srgbClr val="262321"/>
                </a:solidFill>
                <a:latin typeface="Arial Narrow"/>
              </a:rPr>
              <a:t>email: </a:t>
            </a:r>
            <a:r>
              <a:rPr b="0" lang="en-GB" sz="1200" spc="-1" strike="noStrike">
                <a:solidFill>
                  <a:srgbClr val="262321"/>
                </a:solidFill>
                <a:latin typeface="Arial Narrow"/>
              </a:rPr>
              <a:t>holocaust@ioe.ac.uk    </a:t>
            </a:r>
            <a:r>
              <a:rPr b="1" lang="en-GB" sz="1200" spc="-1" strike="noStrike">
                <a:solidFill>
                  <a:srgbClr val="262321"/>
                </a:solidFill>
                <a:latin typeface="Arial Narrow"/>
              </a:rPr>
              <a:t>web: </a:t>
            </a:r>
            <a:r>
              <a:rPr b="0" lang="en-GB" sz="1200" spc="-1" strike="noStrike">
                <a:solidFill>
                  <a:srgbClr val="262321"/>
                </a:solidFill>
                <a:latin typeface="Arial Narrow"/>
              </a:rPr>
              <a:t>www.ioe.ac.uk/holocaust</a:t>
            </a:r>
            <a:endParaRPr b="0" lang="en-US" sz="12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250920" y="6351480"/>
            <a:ext cx="7345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43838e"/>
                </a:solidFill>
                <a:latin typeface="Arial"/>
              </a:rPr>
              <a:t>The IOE’s Centre for Holocaust Education is jointly funded by Pears Foundation and the Department for Education.</a:t>
            </a:r>
            <a:endParaRPr b="0" lang="en-US" sz="10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430" name="Picture 12" descr="CforHE_logo.png"/>
          <p:cNvPicPr/>
          <p:nvPr/>
        </p:nvPicPr>
        <p:blipFill>
          <a:blip r:embed="rId2"/>
          <a:stretch/>
        </p:blipFill>
        <p:spPr>
          <a:xfrm>
            <a:off x="352440" y="5381640"/>
            <a:ext cx="1871640" cy="3985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4" descr="IOE Logo"/>
          <p:cNvPicPr/>
          <p:nvPr/>
        </p:nvPicPr>
        <p:blipFill>
          <a:blip r:embed="rId3"/>
          <a:stretch/>
        </p:blipFill>
        <p:spPr>
          <a:xfrm>
            <a:off x="7343640" y="873000"/>
            <a:ext cx="1405080" cy="5400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" descr="N:\Pictures\img003.jpg"/>
          <p:cNvPicPr/>
          <p:nvPr/>
        </p:nvPicPr>
        <p:blipFill>
          <a:blip r:embed="rId4"/>
          <a:stretch/>
        </p:blipFill>
        <p:spPr>
          <a:xfrm>
            <a:off x="6540480" y="2514600"/>
            <a:ext cx="2279520" cy="18478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F533-73F5-4069-B405-F96EF6DF02D0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IOE Logo"/>
          <p:cNvPicPr/>
          <p:nvPr/>
        </p:nvPicPr>
        <p:blipFill>
          <a:blip r:embed="rId2"/>
          <a:stretch/>
        </p:blipFill>
        <p:spPr>
          <a:xfrm>
            <a:off x="7545240" y="873000"/>
            <a:ext cx="1274760" cy="4906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0" y="0"/>
            <a:ext cx="4636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844560" y="1763640"/>
            <a:ext cx="129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3838e"/>
                </a:solidFill>
                <a:latin typeface="Arial Narrow"/>
              </a:rPr>
              <a:t>Centre for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44560" y="1913040"/>
            <a:ext cx="2655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62321"/>
                </a:solidFill>
                <a:latin typeface="Arial Narrow"/>
              </a:rPr>
              <a:t>Holocaust Education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grpSp>
        <p:nvGrpSpPr>
          <p:cNvPr id="45" name="Group 18"/>
          <p:cNvGrpSpPr/>
          <p:nvPr/>
        </p:nvGrpSpPr>
        <p:grpSpPr>
          <a:xfrm>
            <a:off x="927000" y="2565360"/>
            <a:ext cx="7748640" cy="2257560"/>
            <a:chOff x="927000" y="2565360"/>
            <a:chExt cx="7748640" cy="2257560"/>
          </a:xfrm>
        </p:grpSpPr>
        <p:sp>
          <p:nvSpPr>
            <p:cNvPr id="46" name="Straight Connector 11"/>
            <p:cNvSpPr/>
            <p:nvPr/>
          </p:nvSpPr>
          <p:spPr>
            <a:xfrm flipH="1">
              <a:off x="927000" y="2565360"/>
              <a:ext cx="7748640" cy="0"/>
            </a:xfrm>
            <a:prstGeom prst="line">
              <a:avLst/>
            </a:prstGeom>
            <a:ln w="9360">
              <a:solidFill>
                <a:srgbClr val="ccc7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321"/>
                </a:solidFill>
                <a:latin typeface="Arial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 flipH="1">
              <a:off x="927000" y="4822920"/>
              <a:ext cx="7748640" cy="0"/>
            </a:xfrm>
            <a:prstGeom prst="line">
              <a:avLst/>
            </a:prstGeom>
            <a:ln w="9360">
              <a:solidFill>
                <a:srgbClr val="ccc7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62321"/>
                </a:solidFill>
                <a:latin typeface="Arial"/>
              </a:endParaRPr>
            </a:p>
          </p:txBody>
        </p:sp>
      </p:grpSp>
      <p:pic>
        <p:nvPicPr>
          <p:cNvPr id="48" name="Picture 1" descr="N:\Pictures\img003.jpg"/>
          <p:cNvPicPr/>
          <p:nvPr/>
        </p:nvPicPr>
        <p:blipFill>
          <a:blip r:embed="rId3"/>
          <a:stretch/>
        </p:blipFill>
        <p:spPr>
          <a:xfrm>
            <a:off x="900000" y="2806560"/>
            <a:ext cx="2279880" cy="18478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7020-5C95-4F86-852B-F3F7BEAC2CD4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0"/>
            <a:ext cx="4636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1" name="Straight Connector 7"/>
          <p:cNvSpPr/>
          <p:nvPr/>
        </p:nvSpPr>
        <p:spPr>
          <a:xfrm flipH="1">
            <a:off x="942480" y="1515960"/>
            <a:ext cx="7750440" cy="0"/>
          </a:xfrm>
          <a:prstGeom prst="line">
            <a:avLst/>
          </a:prstGeom>
          <a:ln w="9360">
            <a:solidFill>
              <a:srgbClr val="2623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359A-505E-46E2-BD26-9EA1F967A462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0" y="0"/>
            <a:ext cx="4636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9302-D8A0-4F26-ADF3-BB1D595FBDA7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de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0" y="0"/>
            <a:ext cx="4636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4DF8-DBF1-47B3-BFA6-F93ED0D042C6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5954">
            <a:alpha val="5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0"/>
            <a:ext cx="6112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9D60D-A6B1-4E6A-9BA9-48BA93DA2432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0" y="0"/>
            <a:ext cx="6112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CAAD-18C3-48E5-8DFE-D35673C5D6CF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5954">
            <a:alpha val="2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0"/>
            <a:ext cx="611280" cy="6858000"/>
          </a:xfrm>
          <a:prstGeom prst="rect">
            <a:avLst/>
          </a:prstGeom>
          <a:solidFill>
            <a:srgbClr val="6059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321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1" marL="343080" indent="-343080">
              <a:spcAft>
                <a:spcPts val="601"/>
              </a:spcAft>
              <a:buClr>
                <a:srgbClr val="43838e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2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3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4" marL="343080" indent="-343080">
              <a:spcAft>
                <a:spcPts val="601"/>
              </a:spcAft>
              <a:buClr>
                <a:srgbClr val="43838e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5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  <a:p>
            <a:pPr lvl="6" marL="343080" indent="-343080">
              <a:spcAft>
                <a:spcPts val="601"/>
              </a:spcAft>
              <a:buClr>
                <a:srgbClr val="26232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32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d8c8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810A-40A3-47B1-BC49-66292116E33F}" type="slidenum">
              <a:rPr b="0" lang="en-GB" sz="900" spc="-1" strike="noStrike">
                <a:solidFill>
                  <a:srgbClr val="8d8c8c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492360" y="2701800"/>
            <a:ext cx="5112000" cy="101448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62321"/>
                </a:solidFill>
                <a:latin typeface="Arial Narrow"/>
              </a:rPr>
              <a:t>What was Dachau?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3530520" y="3805200"/>
            <a:ext cx="5073840" cy="992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3838e"/>
                </a:solidFill>
                <a:latin typeface="Arial"/>
              </a:rPr>
              <a:t>How did the Dachau concentration camp change from 1933-45? </a:t>
            </a:r>
            <a:endParaRPr b="0" lang="en-US" sz="16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81" name="Rectangle 2"/>
          <p:cNvSpPr/>
          <p:nvPr/>
        </p:nvSpPr>
        <p:spPr>
          <a:xfrm>
            <a:off x="971640" y="2924280"/>
            <a:ext cx="2016000" cy="15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482" name="Picture 1" descr=""/>
          <p:cNvPicPr/>
          <p:nvPr/>
        </p:nvPicPr>
        <p:blipFill>
          <a:blip r:embed="rId1"/>
          <a:stretch/>
        </p:blipFill>
        <p:spPr>
          <a:xfrm>
            <a:off x="6659640" y="620640"/>
            <a:ext cx="2238120" cy="8571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3132000" y="1320840"/>
            <a:ext cx="3419640" cy="314280"/>
          </a:xfrm>
          <a:prstGeom prst="rect">
            <a:avLst/>
          </a:prstGeom>
          <a:ln w="0">
            <a:noFill/>
          </a:ln>
        </p:spPr>
      </p:pic>
      <p:sp>
        <p:nvSpPr>
          <p:cNvPr id="484" name="Rectangle 1"/>
          <p:cNvSpPr/>
          <p:nvPr/>
        </p:nvSpPr>
        <p:spPr>
          <a:xfrm>
            <a:off x="826920" y="1773360"/>
            <a:ext cx="230508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485" name="Picture 3" descr=""/>
          <p:cNvPicPr/>
          <p:nvPr/>
        </p:nvPicPr>
        <p:blipFill>
          <a:blip r:embed="rId3"/>
          <a:srcRect l="15274" t="0" r="10341" b="0"/>
          <a:stretch/>
        </p:blipFill>
        <p:spPr>
          <a:xfrm>
            <a:off x="1042920" y="2924280"/>
            <a:ext cx="202716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27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Document 21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28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2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Camp Inspector Eicke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show the enemies of the state your teeth!</a:t>
            </a: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’</a:t>
            </a:r>
            <a:endParaRPr b="1" lang="en-US" sz="44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320840" y="1495440"/>
          <a:ext cx="7478640" cy="4784760"/>
        </p:xfrm>
        <a:graphic>
          <a:graphicData uri="http://schemas.openxmlformats.org/drawingml/2006/table">
            <a:tbl>
              <a:tblPr/>
              <a:tblGrid>
                <a:gridCol w="1735200"/>
                <a:gridCol w="5743440"/>
              </a:tblGrid>
              <a:tr h="3967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33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5c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cument 21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34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3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Camp Inspector Eicke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show the enemies of the state your teeth!</a:t>
            </a: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’</a:t>
            </a:r>
            <a:endParaRPr b="1" lang="en-US" sz="44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320840" y="1495440"/>
          <a:ext cx="7478640" cy="4784760"/>
        </p:xfrm>
        <a:graphic>
          <a:graphicData uri="http://schemas.openxmlformats.org/drawingml/2006/table">
            <a:tbl>
              <a:tblPr/>
              <a:tblGrid>
                <a:gridCol w="1735200"/>
                <a:gridCol w="5743440"/>
              </a:tblGrid>
              <a:tr h="3967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How does Eicke describe the inmates?</a:t>
                      </a:r>
                      <a:endParaRPr b="0" lang="en-US" sz="11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ink about how long the Nazis have been in power for, and who they are most likely to target at this time.</a:t>
                      </a:r>
                      <a:endParaRPr b="0" lang="en-US" sz="11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39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ae6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cument 21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40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4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Camp Inspector Eicke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show the enemies of the state your teeth!</a:t>
            </a: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’</a:t>
            </a:r>
            <a:endParaRPr b="1" lang="en-US" sz="44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1320840" y="1495440"/>
          <a:ext cx="7478640" cy="4784760"/>
        </p:xfrm>
        <a:graphic>
          <a:graphicData uri="http://schemas.openxmlformats.org/drawingml/2006/table">
            <a:tbl>
              <a:tblPr/>
              <a:tblGrid>
                <a:gridCol w="1735200"/>
                <a:gridCol w="5743440"/>
              </a:tblGrid>
              <a:tr h="3967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Summer 1933 to spring1934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Not mentioned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olitical prison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‘</a:t>
                      </a: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ven the slightest offence is punished incredibly hard by Eicke’. Eicke introduces new rules and punishments, and indoctrinates staff into the brutal ‘Dachau school’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icke saw inmates as enemies of the state. Himmler agrees with this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is is a period of consolidation of power, where all political opposition to the Nazis was suppressed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45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Document 95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46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4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Nazi Propaganda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the typical face of a born criminal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1320840" y="1495440"/>
          <a:ext cx="7478640" cy="4784760"/>
        </p:xfrm>
        <a:graphic>
          <a:graphicData uri="http://schemas.openxmlformats.org/drawingml/2006/table">
            <a:tbl>
              <a:tblPr/>
              <a:tblGrid>
                <a:gridCol w="1735200"/>
                <a:gridCol w="5743440"/>
              </a:tblGrid>
              <a:tr h="3967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51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5c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cument 95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52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5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Nazi Propaganda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the typical face of a born criminal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320840" y="1563840"/>
          <a:ext cx="7499160" cy="4751280"/>
        </p:xfrm>
        <a:graphic>
          <a:graphicData uri="http://schemas.openxmlformats.org/drawingml/2006/table">
            <a:tbl>
              <a:tblPr/>
              <a:tblGrid>
                <a:gridCol w="1739880"/>
                <a:gridCol w="5759280"/>
              </a:tblGrid>
              <a:tr h="396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words are used in the source that make Dachau sound like a pleasant place to stay?</a:t>
                      </a:r>
                      <a:endParaRPr b="0" lang="en-US" sz="11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has happened to political prisoners by this time? What kind of establishment is this article trying to portray Dachau as? </a:t>
                      </a:r>
                      <a:endParaRPr b="0" lang="en-US" sz="11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795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57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ae6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cument 95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58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5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Nazi Propaganda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the typical face of a born criminal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1320840" y="1563840"/>
          <a:ext cx="7499160" cy="4771800"/>
        </p:xfrm>
        <a:graphic>
          <a:graphicData uri="http://schemas.openxmlformats.org/drawingml/2006/table">
            <a:tbl>
              <a:tblPr/>
              <a:tblGrid>
                <a:gridCol w="1739880"/>
                <a:gridCol w="5759280"/>
              </a:tblGrid>
              <a:tr h="3967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ecember 1936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Not mentioned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ith political resistance broken in Germany, the focus of Nazi repression shifted more to alleged criminals and ‘asocials’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is propaganda article lies about Dachau being a place where inmates get ‘good nourishing food and regular sleep, regulated work and rest breaks’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Many political prisoners have now been released. The article assumes the wider public ‘don’t know’ about conditions in Dachau. It is trying to portray it as an ‘educational establishment’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794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e Nazis have consolidated their power. As political opposition has largely gone, the purpose of camps is changing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63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Document 51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64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6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German prisoners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marked by coloured strips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238400" y="1601640"/>
          <a:ext cx="7478640" cy="478476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69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5c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cument 51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70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7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German prisoners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marked by coloured strips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1238400" y="1601640"/>
          <a:ext cx="7478640" cy="478476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has happened to the number of different types of prisoners?</a:t>
                      </a:r>
                      <a:endParaRPr b="0" lang="en-US" sz="11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nationality are most of the prisoners at this point? Why do you think this is?</a:t>
                      </a:r>
                      <a:endParaRPr b="0" lang="en-US" sz="11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75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ae6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cument 51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76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7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German prisoners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marked by coloured strips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238400" y="1601640"/>
          <a:ext cx="7478640" cy="478476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Spring 1937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9 prisoner companies (companies contain 100-250 men)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e inmate population is more diverse. Although still almost entirely German, they include prisoners who are: ‘second-time-rounders, asocial, political, Jews, homosexuals, disabled and sick’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ifferent groups of prisoners are marked by coloured strips, soon to be replaced by triangles. There are tensions between inmates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e prisoner population has become more diverse, reflecting Nazi racial ideology of who does or doesn’t ‘belong’ to the German st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At this point, prisoners are still mostly Germans, as the Second World War, and its expansion into other lands, has yet to happen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81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Document 37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82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8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Death transports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living corpses is an inadequate description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1238400" y="1601640"/>
          <a:ext cx="7478640" cy="478476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87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488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262321"/>
                </a:solidFill>
                <a:latin typeface="Arial Narrow"/>
              </a:rPr>
              <a:t>Place A</a:t>
            </a:r>
            <a:endParaRPr b="1" lang="en-US" sz="44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547280" y="16398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‘</a:t>
            </a: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It is a cold evening… the… prisoners are having bread, sausage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and tea inside the former office of a dilapidated munitions plant…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cordoned off from the rest of the deserted factory ground with its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crumbling structure, broken concrete foundations, and derelict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roads. In all, there are no more than 100 or 120 political prisoners…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the guards were… amiable policeman, who chatted with the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prisoners, handed out cigarettes, and even slept in the same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building.’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91" name="Snip Single Corner Rectangle 9"/>
          <p:cNvSpPr/>
          <p:nvPr/>
        </p:nvSpPr>
        <p:spPr>
          <a:xfrm flipH="1">
            <a:off x="4284720" y="6453360"/>
            <a:ext cx="4859280" cy="404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What is being described? How can you tell?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87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5c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cument 37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88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8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Death transports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living corpses is an inadequate description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1238400" y="1601640"/>
          <a:ext cx="7478640" cy="478476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condition are many of the prisoners in when they arrive? What nickname are they given?</a:t>
                      </a:r>
                      <a:endParaRPr b="0" lang="en-US" sz="11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policy was being followed in Dachau at this time, and why? How did it relate to other Nazi camps?</a:t>
                      </a:r>
                      <a:endParaRPr b="0" lang="en-US" sz="11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93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ae6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cument 37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94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9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Death transports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living corpses is an inadequate description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1238400" y="1601640"/>
          <a:ext cx="7478640" cy="478476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67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Autumn 1942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350 new prisoners arrive, 57 of whom were dead on arrival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s on ‘death transports’, who are sick and infirm. They are nicknamed </a:t>
                      </a:r>
                      <a:r>
                        <a:rPr b="0" i="1" lang="en-US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Muselmänner </a:t>
                      </a:r>
                      <a:r>
                        <a:rPr b="0" lang="en-US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(Muslims, or the ‘living dead’)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ese prisoners died of illness, starvation, or were murdered. They are described on arrival as ‘living corpses’ – though this is seen as an ‘inadequate’ description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chau briefly became a collection point for weak and sick prisoners, as the SS in other camps wanted to get rid of them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is was a revived policy: thousands of sick prisoners had already been sent to Dachau in 1940, to relieve other camps. Prisoners now also included many Soviet Prisoners-of-War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99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Document 54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00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60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Soviet Prisoners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there were 200 boys like us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603" name=""/>
          <p:cNvGraphicFramePr/>
          <p:nvPr/>
        </p:nvGraphicFramePr>
        <p:xfrm>
          <a:off x="1238400" y="1601640"/>
          <a:ext cx="7478640" cy="456120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05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5c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cument 54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06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60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Soviet Prisoners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there were 200 boys like us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1238400" y="1601640"/>
          <a:ext cx="7478640" cy="456120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words does a Soviet prisoner use to describe conditions in the camp?</a:t>
                      </a:r>
                      <a:endParaRPr b="0" lang="en-US" sz="11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In June 1941, which military operation did the Nazis launch, and how did this effect prisoners in a camp like Dachau?</a:t>
                      </a:r>
                      <a:endParaRPr b="0" lang="en-US" sz="11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11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ae6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cument 54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12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61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Soviet Prisoners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there were 200 boys like us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238400" y="1601640"/>
          <a:ext cx="7478640" cy="456120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.1943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Mentions ‘1000s’ of Soviet youths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Foreign workers, especially from Poland and the Soviet Union. There are also some children of 8-16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A Soviet prisoner describes conditions as ‘hell’ and talks of ‘terrors and deprivations’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Foreign workers were exploited for the German war economy, with many German workers drafted into the military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Following the invasion of the Soviet Union (‘Operation Barbarossa’) in June 1941, the Nazis captured many Soviet PoWs and forced them into camps; hundreds of thousands perished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17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Document 74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18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61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War Experiments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I read your report on freezing experiments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1238400" y="1601640"/>
          <a:ext cx="7478640" cy="456120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23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5c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cument 74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24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62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War Experiments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I read your report on freezing experiments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1238400" y="1601640"/>
          <a:ext cx="7478640" cy="464364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888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sort of experiments did the SS undertake in Dachau?</a:t>
                      </a:r>
                      <a:endParaRPr b="0" lang="en-US" sz="11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864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y this stage in the war, why were German losses starting to increase?</a:t>
                      </a:r>
                      <a:endParaRPr b="0" lang="en-US" sz="11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29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ae6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cument 74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30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63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War Experiments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I read your report on freezing experiments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238400" y="1601640"/>
          <a:ext cx="7478640" cy="496728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October 1942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Not mentioned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Not mentioned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e SS undertook human experiments in the camp, such as putting prisoners in freezing water tanks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e Nazis wanted to develop new ways of treating wounded German soldiers. Himmler approved of these murderous experiments, which were mostly pointless and only spread suffering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German losses during the war were mounting, in particular following the invasion of the Soviet Union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35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Document 75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36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63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Freezing to death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Farewell comrade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1238400" y="1601640"/>
          <a:ext cx="7478640" cy="456120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41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5c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cument 75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42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64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Freezing to death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Farewell comrade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1238400" y="1601640"/>
          <a:ext cx="7478640" cy="456120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did Dr. Sigmund Rascher experiment with?</a:t>
                      </a:r>
                      <a:endParaRPr b="0" lang="en-US" sz="11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was the purpose of these experiments?</a:t>
                      </a:r>
                      <a:endParaRPr b="0" lang="en-US" sz="11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93" name="Snip Single Corner Rectangle 11"/>
          <p:cNvSpPr/>
          <p:nvPr/>
        </p:nvSpPr>
        <p:spPr>
          <a:xfrm flipH="1">
            <a:off x="4284720" y="6453360"/>
            <a:ext cx="4859280" cy="404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What is being described? How can you tell?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94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49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262321"/>
                </a:solidFill>
                <a:latin typeface="Arial Narrow"/>
              </a:rPr>
              <a:t>Place B</a:t>
            </a:r>
            <a:endParaRPr b="1" lang="en-US" sz="44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165320" y="16398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‘</a:t>
            </a: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Nearly four thousand men with cropped hair stand to attention in striped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uniforms, dreading another day of forced labour. Except for a group of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Czechs, virtually all the prisoners are German or Austrian, though their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common language is often all they share; coloured triangles on their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uniforms identify them as political prisoners, asocials, criminals,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homosexuals, Jehovah’s Witnesses, or Jews…. Each of the thirty four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purpose-built huts is around 110 yards long; the floors inside are gleaming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and the bunks are meticulously made up. Escape is almost impossible…’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47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ae6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cument 75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48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64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Freezing to death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Farewell comrade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1238400" y="1601640"/>
          <a:ext cx="7478640" cy="456120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1942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Not mentioned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Some inmates are Soviet prisoners, and there are also political prisoners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eriments are carried out using ice water. One witness described this as ‘brutally cruel’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r. Sigmund Rascher experimented with different methods to revive prisoners from freezing water. Many died in agony from this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e rationale for this torture was to help find ways of reviving German pilots who had been shot down over the British Channel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53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Document 46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54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65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Construction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Deaths no longer aroused much interest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1238400" y="1601640"/>
          <a:ext cx="7478640" cy="456120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59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5c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cument 46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60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66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Construction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Deaths no longer aroused much interest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663" name=""/>
          <p:cNvGraphicFramePr/>
          <p:nvPr/>
        </p:nvGraphicFramePr>
        <p:xfrm>
          <a:off x="1238400" y="1601640"/>
          <a:ext cx="7478640" cy="478476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sort of projects did the Nazis force prisoners to work on?</a:t>
                      </a:r>
                      <a:endParaRPr b="0" lang="en-US" sz="11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At this date, how is the war going for Germany?</a:t>
                      </a:r>
                      <a:endParaRPr b="0" lang="en-US" sz="11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65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ae6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cument 46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66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66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Construction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Deaths no longer aroused much interest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1238400" y="1601640"/>
          <a:ext cx="7478640" cy="505944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1944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30,000 in a satellite camp attached to Dachau, called Kaufering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Most of the 30,000 taken to Kaufering were Jewish men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s were forced to dig and build shelters, as well as massive bunkers. Around 15,000 lost their lives. Death became commonplace, due to illness, starvation and continual exhaustion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e Nazis wanted prisoners to work on ‘relocation projects’ underground, to protect German war production from Allied bombs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At this time the tide of the war has turned against Germany, as troops retreat on the eastern front, and following the D-Day landings, Germany is forced back in the west as well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71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Document 112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72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67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Freedom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my life was given back to me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238400" y="1601640"/>
          <a:ext cx="7478640" cy="456120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77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5c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cument 112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78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67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Freedom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my life was given back to me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681" name=""/>
          <p:cNvGraphicFramePr/>
          <p:nvPr/>
        </p:nvGraphicFramePr>
        <p:xfrm>
          <a:off x="1238400" y="1601640"/>
          <a:ext cx="7478640" cy="456120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o ‘liberated’ Dachau? Why was it this country, and not one of the other Allies?</a:t>
                      </a:r>
                      <a:endParaRPr b="0" lang="en-US" sz="11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83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ae6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cument 112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84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68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Freedom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my life was given back to me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1238400" y="1601640"/>
          <a:ext cx="7478640" cy="4561200"/>
        </p:xfrm>
        <a:graphic>
          <a:graphicData uri="http://schemas.openxmlformats.org/drawingml/2006/table">
            <a:tbl>
              <a:tblPr/>
              <a:tblGrid>
                <a:gridCol w="1734840"/>
                <a:gridCol w="574380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29</a:t>
                      </a:r>
                      <a:r>
                        <a:rPr b="0" lang="en-GB" sz="1800" spc="-1" strike="noStrike" baseline="30000">
                          <a:solidFill>
                            <a:srgbClr val="262321"/>
                          </a:solidFill>
                          <a:latin typeface="Arial Narrow"/>
                        </a:rPr>
                        <a:t>th</a:t>
                      </a: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 April, 1945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32,000, though thousands of Dachau prisoners had been forced on death marches just days earlier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s from over 30 different nations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9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s are ‘excited’ and ‘ecstatic.’ One prisoner describes how they felt joy rather than hatred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e Camp SS forced a number of prisoners from Dachau onto a ‘death march’ to prevent them from falling into Allied hands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American soldiers liberated Dachau. The Red Army tended to liberate camps in the east, such as Auschwitz, whereas Dachau was near Munich, to the west.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0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66600" y="256500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Narrow"/>
              </a:rPr>
              <a:t>Resources: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 Narrow"/>
              </a:rPr>
              <a:t>Context Cards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755640" y="1341360"/>
            <a:ext cx="8209080" cy="298440"/>
          </a:xfrm>
          <a:prstGeom prst="rect">
            <a:avLst/>
          </a:prstGeom>
          <a:solidFill>
            <a:srgbClr val="9990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91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69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Context Card:</a:t>
            </a: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	</a:t>
            </a: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	</a:t>
            </a: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	</a:t>
            </a: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Date: </a:t>
            </a:r>
            <a:endParaRPr b="1" lang="en-US" sz="44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950400" y="3660840"/>
            <a:ext cx="7712280" cy="17841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262321"/>
                </a:solidFill>
                <a:latin typeface="Arial Narrow"/>
              </a:rPr>
              <a:t>Choose one of the following areas of the website you would like to look at, and record a new piece of information that</a:t>
            </a:r>
            <a:endParaRPr b="0" lang="en-US" sz="14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400" spc="-1" strike="noStrike">
                <a:solidFill>
                  <a:srgbClr val="262321"/>
                </a:solidFill>
                <a:latin typeface="Arial Narrow"/>
              </a:rPr>
              <a:t>helps to give some context to what was happening in Dachau;</a:t>
            </a:r>
            <a:endParaRPr b="0" lang="en-US" sz="14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262321"/>
                </a:solidFill>
                <a:latin typeface="Arial Narrow"/>
              </a:rPr>
              <a:t>A. Early Camps </a:t>
            </a:r>
            <a:r>
              <a:rPr b="1" lang="en-GB" sz="1600" spc="-1" strike="noStrike">
                <a:solidFill>
                  <a:srgbClr val="262321"/>
                </a:solidFill>
                <a:latin typeface="Arial Narrow"/>
              </a:rPr>
              <a:t>	</a:t>
            </a:r>
            <a:r>
              <a:rPr b="1" lang="en-GB" sz="1600" spc="-1" strike="noStrike">
                <a:solidFill>
                  <a:srgbClr val="262321"/>
                </a:solidFill>
                <a:latin typeface="Arial Narrow"/>
              </a:rPr>
              <a:t>B. Camp System </a:t>
            </a:r>
            <a:r>
              <a:rPr b="1" lang="en-GB" sz="1600" spc="-1" strike="noStrike">
                <a:solidFill>
                  <a:srgbClr val="262321"/>
                </a:solidFill>
                <a:latin typeface="Arial Narrow"/>
              </a:rPr>
              <a:t>	</a:t>
            </a:r>
            <a:r>
              <a:rPr b="1" lang="en-GB" sz="1600" spc="-1" strike="noStrike">
                <a:solidFill>
                  <a:srgbClr val="262321"/>
                </a:solidFill>
                <a:latin typeface="Arial Narrow"/>
              </a:rPr>
              <a:t>C. Perpetrators </a:t>
            </a:r>
            <a:r>
              <a:rPr b="1" lang="en-GB" sz="1600" spc="-1" strike="noStrike">
                <a:solidFill>
                  <a:srgbClr val="262321"/>
                </a:solidFill>
                <a:latin typeface="Arial Narrow"/>
              </a:rPr>
              <a:t>	</a:t>
            </a:r>
            <a:r>
              <a:rPr b="1" lang="en-GB" sz="1600" spc="-1" strike="noStrike">
                <a:solidFill>
                  <a:srgbClr val="262321"/>
                </a:solidFill>
                <a:latin typeface="Arial Narrow"/>
              </a:rPr>
              <a:t>E. Slave Labour </a:t>
            </a:r>
            <a:endParaRPr b="0" lang="en-US" sz="16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262321"/>
                </a:solidFill>
                <a:latin typeface="Arial Narrow"/>
              </a:rPr>
              <a:t>F. Prisoner Groups </a:t>
            </a:r>
            <a:r>
              <a:rPr b="1" lang="en-GB" sz="1600" spc="-1" strike="noStrike">
                <a:solidFill>
                  <a:srgbClr val="262321"/>
                </a:solidFill>
                <a:latin typeface="Arial Narrow"/>
              </a:rPr>
              <a:t>	</a:t>
            </a:r>
            <a:r>
              <a:rPr b="1" lang="en-GB" sz="1600" spc="-1" strike="noStrike">
                <a:solidFill>
                  <a:srgbClr val="262321"/>
                </a:solidFill>
                <a:latin typeface="Arial Narrow"/>
              </a:rPr>
              <a:t>H. Executions </a:t>
            </a:r>
            <a:r>
              <a:rPr b="1" lang="en-GB" sz="1600" spc="-1" strike="noStrike">
                <a:solidFill>
                  <a:srgbClr val="262321"/>
                </a:solidFill>
                <a:latin typeface="Arial Narrow"/>
              </a:rPr>
              <a:t>	</a:t>
            </a:r>
            <a:r>
              <a:rPr b="1" lang="en-GB" sz="1600" spc="-1" strike="noStrike">
                <a:solidFill>
                  <a:srgbClr val="262321"/>
                </a:solidFill>
                <a:latin typeface="Arial Narrow"/>
              </a:rPr>
              <a:t>I. Holocaust </a:t>
            </a:r>
            <a:r>
              <a:rPr b="1" lang="en-GB" sz="1600" spc="-1" strike="noStrike">
                <a:solidFill>
                  <a:srgbClr val="262321"/>
                </a:solidFill>
                <a:latin typeface="Arial Narrow"/>
              </a:rPr>
              <a:t>	</a:t>
            </a:r>
            <a:r>
              <a:rPr b="1" lang="en-GB" sz="1600" spc="-1" strike="noStrike">
                <a:solidFill>
                  <a:srgbClr val="262321"/>
                </a:solidFill>
                <a:latin typeface="Arial Narrow"/>
              </a:rPr>
              <a:t>L. Liberation </a:t>
            </a:r>
            <a:endParaRPr b="0" lang="en-US" sz="16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600" spc="-1" strike="noStrike">
                <a:solidFill>
                  <a:srgbClr val="262321"/>
                </a:solidFill>
                <a:latin typeface="Arial Narrow"/>
              </a:rPr>
              <a:t>OR look at the Timeline or Maps sections</a:t>
            </a:r>
            <a:endParaRPr b="0" lang="en-US" sz="16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buClr>
                <a:srgbClr val="43838e"/>
              </a:buClr>
              <a:buFont typeface="Arial Narrow"/>
              <a:buAutoNum type="alphaU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95" name="Content Placeholder 2"/>
          <p:cNvSpPr/>
          <p:nvPr/>
        </p:nvSpPr>
        <p:spPr>
          <a:xfrm>
            <a:off x="1238400" y="1197000"/>
            <a:ext cx="7581600" cy="40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800" spc="-1" strike="noStrike">
                <a:solidFill>
                  <a:srgbClr val="262321"/>
                </a:solidFill>
                <a:latin typeface="Arial Narrow"/>
                <a:ea typeface="Arial"/>
              </a:rPr>
              <a:t>Something we found out to help understand what was happening at Dachau was…</a:t>
            </a: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696" name="Snip Single Corner Rectangle 9"/>
          <p:cNvSpPr/>
          <p:nvPr/>
        </p:nvSpPr>
        <p:spPr>
          <a:xfrm flipH="1" flipV="1" rot="5400000">
            <a:off x="7993440" y="4313160"/>
            <a:ext cx="1800000" cy="46332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Context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69960" y="2987280"/>
            <a:ext cx="5557680" cy="90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62321"/>
                </a:solidFill>
                <a:latin typeface="Arial Narrow"/>
              </a:rPr>
              <a:t>‘</a:t>
            </a:r>
            <a:r>
              <a:rPr b="1" lang="en-GB" sz="2400" spc="-1" strike="noStrike">
                <a:solidFill>
                  <a:srgbClr val="262321"/>
                </a:solidFill>
                <a:latin typeface="Arial Narrow"/>
              </a:rPr>
              <a:t>What was Dachau?’</a:t>
            </a:r>
            <a:br>
              <a:rPr sz="2400"/>
            </a:br>
            <a:br>
              <a:rPr sz="2400"/>
            </a:br>
            <a:r>
              <a:rPr b="1" lang="en-GB" sz="2400" spc="-1" strike="noStrike">
                <a:solidFill>
                  <a:srgbClr val="262321"/>
                </a:solidFill>
                <a:latin typeface="Arial Narrow"/>
              </a:rPr>
              <a:t>How did the Dachau concentration camp change from 1933-45? </a:t>
            </a:r>
            <a:endParaRPr b="1" lang="en-US" sz="24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698" name="Rectangle 1"/>
          <p:cNvSpPr/>
          <p:nvPr/>
        </p:nvSpPr>
        <p:spPr>
          <a:xfrm>
            <a:off x="6659640" y="2637000"/>
            <a:ext cx="2016000" cy="15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699" name="Picture 4" descr=""/>
          <p:cNvPicPr/>
          <p:nvPr/>
        </p:nvPicPr>
        <p:blipFill>
          <a:blip r:embed="rId1"/>
          <a:srcRect l="15274" t="0" r="10341" b="0"/>
          <a:stretch/>
        </p:blipFill>
        <p:spPr>
          <a:xfrm>
            <a:off x="6689880" y="2637000"/>
            <a:ext cx="2025360" cy="16239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" descr=""/>
          <p:cNvPicPr/>
          <p:nvPr/>
        </p:nvPicPr>
        <p:blipFill>
          <a:blip r:embed="rId2"/>
          <a:stretch/>
        </p:blipFill>
        <p:spPr>
          <a:xfrm>
            <a:off x="6659640" y="620640"/>
            <a:ext cx="2238120" cy="8571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" descr=""/>
          <p:cNvPicPr/>
          <p:nvPr/>
        </p:nvPicPr>
        <p:blipFill>
          <a:blip r:embed="rId3"/>
          <a:stretch/>
        </p:blipFill>
        <p:spPr>
          <a:xfrm>
            <a:off x="3132000" y="1320840"/>
            <a:ext cx="341964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499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0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262321"/>
                </a:solidFill>
                <a:latin typeface="Arial Narrow"/>
              </a:rPr>
              <a:t>Place C</a:t>
            </a:r>
            <a:endParaRPr b="1" lang="en-US" sz="44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165320" y="1639800"/>
            <a:ext cx="7788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‘</a:t>
            </a: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Later that afternoon, they come upon thirty two thousand survivors from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many ethnic, religious, and political backgrounds, representing about thirty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European nations. Some seem more dead than alive… Many more lie in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overcrowded barracks, infested with dirt and disease… dead bodies,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sprawled between barracks, dumped in ditches, stacked like logs by the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200" spc="-1" strike="noStrike">
                <a:solidFill>
                  <a:srgbClr val="262321"/>
                </a:solidFill>
                <a:latin typeface="Arial Narrow"/>
              </a:rPr>
              <a:t>camp’s crematorium…’</a:t>
            </a: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03" name="Snip Single Corner Rectangle 7"/>
          <p:cNvSpPr/>
          <p:nvPr/>
        </p:nvSpPr>
        <p:spPr>
          <a:xfrm flipH="1">
            <a:off x="4284720" y="6453360"/>
            <a:ext cx="4859280" cy="404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What is being described? How can you tell?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77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43838e"/>
                </a:solidFill>
                <a:latin typeface="Arial Narrow"/>
              </a:rPr>
              <a:t>Comparing Places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900000" y="16398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262321"/>
                </a:solidFill>
                <a:latin typeface="Arial Narrow"/>
              </a:rPr>
              <a:t>How might you describe Places A, B and C?</a:t>
            </a:r>
            <a:endParaRPr b="0" lang="en-US" sz="24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26232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400" spc="-1" strike="noStrike">
                <a:solidFill>
                  <a:srgbClr val="262321"/>
                </a:solidFill>
                <a:latin typeface="Arial Narrow"/>
              </a:rPr>
              <a:t>In what ways are they similar or different?</a:t>
            </a:r>
            <a:endParaRPr b="0" lang="en-US" sz="24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0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66600" y="256500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 Narrow"/>
              </a:rPr>
              <a:t>Resources: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 Narrow"/>
              </a:rPr>
              <a:t>Document Statement Cards</a:t>
            </a:r>
            <a:endParaRPr b="1" lang="en-US" sz="3600" spc="-1" strike="noStrike">
              <a:solidFill>
                <a:srgbClr val="262321"/>
              </a:solidFill>
              <a:latin typeface="Arial Narrow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755640" y="1341360"/>
            <a:ext cx="8209080" cy="298440"/>
          </a:xfrm>
          <a:prstGeom prst="rect">
            <a:avLst/>
          </a:prstGeom>
          <a:solidFill>
            <a:srgbClr val="9990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09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e1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62321"/>
                </a:solidFill>
                <a:latin typeface="Arial Narrow"/>
              </a:rPr>
              <a:t>Document 3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10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165320" y="17748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Himmler sets up Dachau</a:t>
            </a:r>
            <a:br>
              <a:rPr sz="60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The first concentration camp will be opened</a:t>
            </a: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’</a:t>
            </a:r>
            <a:endParaRPr b="1" lang="en-US" sz="44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320840" y="1495440"/>
          <a:ext cx="7478640" cy="4784760"/>
        </p:xfrm>
        <a:graphic>
          <a:graphicData uri="http://schemas.openxmlformats.org/drawingml/2006/table">
            <a:tbl>
              <a:tblPr/>
              <a:tblGrid>
                <a:gridCol w="1735200"/>
                <a:gridCol w="5743440"/>
              </a:tblGrid>
              <a:tr h="3967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15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5c45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cument 3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16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17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08160" y="7092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Himmler sets up Dachau</a:t>
            </a:r>
            <a:br>
              <a:rPr sz="44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The first concentration camp will be opened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1208160" y="1303200"/>
          <a:ext cx="7478640" cy="5059440"/>
        </p:xfrm>
        <a:graphic>
          <a:graphicData uri="http://schemas.openxmlformats.org/drawingml/2006/table">
            <a:tbl>
              <a:tblPr/>
              <a:tblGrid>
                <a:gridCol w="1995480"/>
                <a:gridCol w="5483160"/>
              </a:tblGrid>
              <a:tr h="39708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at words are used to describe the ‘camp’ and ‘grounds’?</a:t>
                      </a:r>
                      <a:endParaRPr b="0" lang="en-US" sz="11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Who was the camp built to imprison?</a:t>
                      </a:r>
                      <a:endParaRPr b="0" lang="en-US" sz="11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ink about how long the Nazis have been in power for. Look at the date.</a:t>
                      </a:r>
                      <a:endParaRPr b="0" lang="en-US" sz="11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6"/>
          <p:cNvSpPr/>
          <p:nvPr/>
        </p:nvSpPr>
        <p:spPr>
          <a:xfrm>
            <a:off x="0" y="0"/>
            <a:ext cx="539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21" name="Snip Single Corner Rectangle 11"/>
          <p:cNvSpPr/>
          <p:nvPr/>
        </p:nvSpPr>
        <p:spPr>
          <a:xfrm flipH="1">
            <a:off x="7236000" y="6453360"/>
            <a:ext cx="1908000" cy="404640"/>
          </a:xfrm>
          <a:prstGeom prst="pie">
            <a:avLst/>
          </a:prstGeom>
          <a:solidFill>
            <a:srgbClr val="ae6c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Document 3</a:t>
            </a:r>
            <a:endParaRPr b="0" lang="en-US" sz="2000" spc="-1" strike="noStrike">
              <a:solidFill>
                <a:srgbClr val="262321"/>
              </a:solidFill>
              <a:latin typeface="Arial"/>
            </a:endParaRPr>
          </a:p>
        </p:txBody>
      </p:sp>
      <p:sp>
        <p:nvSpPr>
          <p:cNvPr id="522" name="Rectangle 1"/>
          <p:cNvSpPr/>
          <p:nvPr/>
        </p:nvSpPr>
        <p:spPr>
          <a:xfrm>
            <a:off x="826920" y="1459080"/>
            <a:ext cx="7993080" cy="14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321"/>
              </a:solidFill>
              <a:latin typeface="Arial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5076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208160" y="70920"/>
            <a:ext cx="778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43838e"/>
                </a:solidFill>
                <a:latin typeface="Arial Narrow"/>
              </a:rPr>
              <a:t>Himmler sets up Dachau</a:t>
            </a:r>
            <a:br>
              <a:rPr sz="4400"/>
            </a:br>
            <a:r>
              <a:rPr b="1" lang="en-GB" sz="3200" spc="-1" strike="noStrike">
                <a:solidFill>
                  <a:srgbClr val="43838e"/>
                </a:solidFill>
                <a:latin typeface="Arial Narrow"/>
              </a:rPr>
              <a:t>‘The first concentration camp will be opened’</a:t>
            </a:r>
            <a:endParaRPr b="1" lang="en-US" sz="3200" spc="-1" strike="noStrike">
              <a:solidFill>
                <a:srgbClr val="262321"/>
              </a:solidFill>
              <a:latin typeface="Arial Narrow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1208160" y="1303200"/>
          <a:ext cx="7478640" cy="5059440"/>
        </p:xfrm>
        <a:graphic>
          <a:graphicData uri="http://schemas.openxmlformats.org/drawingml/2006/table">
            <a:tbl>
              <a:tblPr/>
              <a:tblGrid>
                <a:gridCol w="1995480"/>
                <a:gridCol w="5483160"/>
              </a:tblGrid>
              <a:tr h="3967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 Information</a:t>
                      </a:r>
                      <a:endParaRPr b="0" lang="en-US" sz="20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solidFill>
                      <a:srgbClr val="43838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Date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20 March, 1933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number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151 (31 March) to 2,000 (30 June), with capacity for 5,000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Prisoner type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Left wing – Communists and ‘Reichsbanner’ (pro-democracy)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Camp condi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‘</a:t>
                      </a: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makeshift camp’ on ‘rundown grounds’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Explanation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e camp was built to imprison those ‘who threaten the security of the state’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Broader context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262321"/>
                          </a:solidFill>
                          <a:latin typeface="Arial Narrow"/>
                        </a:rPr>
                        <a:t>This is at the point where the Nazi movement has just come to power and is trying to assert its control by imprisoning political opponents, most notably Communists</a:t>
                      </a:r>
                      <a:endParaRPr b="0" lang="en-US" sz="1800" spc="-1" strike="noStrike">
                        <a:solidFill>
                          <a:srgbClr val="26232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62321"/>
                      </a:solidFill>
                    </a:lnL>
                    <a:lnR w="5760">
                      <a:solidFill>
                        <a:srgbClr val="262321"/>
                      </a:solidFill>
                    </a:lnR>
                    <a:lnT w="5760">
                      <a:solidFill>
                        <a:srgbClr val="262321"/>
                      </a:solidFill>
                    </a:lnT>
                    <a:lnB w="5760">
                      <a:solidFill>
                        <a:srgbClr val="2623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6T16:57:49Z</dcterms:created>
  <dc:creator>Cloned Ltd</dc:creator>
  <dc:description/>
  <dc:language>en-US</dc:language>
  <cp:lastModifiedBy>Family-PC</cp:lastModifiedBy>
  <cp:lastPrinted>2016-05-20T12:39:17Z</cp:lastPrinted>
  <dcterms:modified xsi:type="dcterms:W3CDTF">2017-04-11T09:13:40Z</dcterms:modified>
  <cp:revision>523</cp:revision>
  <dc:subject/>
  <dc:title>Slide 1</dc:title>
</cp:coreProperties>
</file>